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9FCDF-4648-4674-9ECE-1662DC147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21E71-7A23-402E-9A76-1ED1F62D5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0EC9B-3CB0-4AE0-8A66-64EF34E76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2E256-5A44-4EAB-AC29-9E341ED61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1F60A-57C8-4C40-9BDF-8FD40ABF7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E37AF-C16A-4CD4-B5A3-75CDCC290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BDDA9-105C-4CA7-9184-2F9E8BFF5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05D2E-9706-4988-ACA6-0E49C8B87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5092F-D153-47A5-A78D-23777493F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F5BB6-3554-4A90-B60D-399965B15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A70F7-1A74-459F-9E4F-34DAC72B8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E4C40-A54F-4BDA-B00B-AAFFEED9A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EF39A-2E4E-4D6F-A092-01E527699D4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9" descr="wall1264"/>
          <p:cNvPicPr/>
          <p:nvPr/>
        </p:nvPicPr>
        <p:blipFill>
          <a:blip r:embed="rId1"/>
          <a:stretch/>
        </p:blipFill>
        <p:spPr>
          <a:xfrm>
            <a:off x="0" y="0"/>
            <a:ext cx="9144000" cy="6826320"/>
          </a:xfrm>
          <a:prstGeom prst="rect">
            <a:avLst/>
          </a:prstGeom>
          <a:ln w="0">
            <a:noFill/>
          </a:ln>
        </p:spPr>
      </p:pic>
      <p:sp>
        <p:nvSpPr>
          <p:cNvPr id="44" name="WordArt 12"/>
          <p:cNvSpPr txBox="1"/>
          <p:nvPr/>
        </p:nvSpPr>
        <p:spPr>
          <a:xfrm>
            <a:off x="1116000" y="2205000"/>
            <a:ext cx="7272360" cy="188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Гидросфера. 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Строение гидросферы. Круговорот воды.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539640" y="3860280"/>
            <a:ext cx="8229600" cy="22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imes New Roman"/>
              </a:rPr>
              <a:t>Зада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Рассмотрите карту полушарий и определите, что входит в состав гидросферы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539280" y="333360"/>
            <a:ext cx="8147160" cy="273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это водная оболочка земл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WordArt 7"/>
          <p:cNvSpPr txBox="1"/>
          <p:nvPr/>
        </p:nvSpPr>
        <p:spPr>
          <a:xfrm>
            <a:off x="1835280" y="404640"/>
            <a:ext cx="5976720" cy="108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Гидросфера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Organization Chart 7"/>
          <p:cNvGrpSpPr/>
          <p:nvPr/>
        </p:nvGrpSpPr>
        <p:grpSpPr>
          <a:xfrm>
            <a:off x="611280" y="476280"/>
            <a:ext cx="8208360" cy="5616360"/>
            <a:chOff x="611280" y="476280"/>
            <a:chExt cx="8208360" cy="5616360"/>
          </a:xfrm>
        </p:grpSpPr>
        <p:cxnSp>
          <p:nvCxnSpPr>
            <p:cNvPr id="58" name="_s1028"/>
            <p:cNvCxnSpPr>
              <a:stCxn id="59" idx="1"/>
              <a:endCxn id="60" idx="2"/>
            </p:cNvCxnSpPr>
            <p:nvPr/>
          </p:nvCxnSpPr>
          <p:spPr>
            <a:xfrm rot="10800000">
              <a:off x="6840000" y="3116520"/>
              <a:ext cx="281520" cy="26431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1" name="_s1029"/>
            <p:cNvCxnSpPr>
              <a:stCxn id="62" idx="1"/>
              <a:endCxn id="60" idx="2"/>
            </p:cNvCxnSpPr>
            <p:nvPr/>
          </p:nvCxnSpPr>
          <p:spPr>
            <a:xfrm rot="10800000">
              <a:off x="6840000" y="3116520"/>
              <a:ext cx="281520" cy="16545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3" name="_s1030"/>
            <p:cNvCxnSpPr>
              <a:stCxn id="64" idx="1"/>
              <a:endCxn id="60" idx="2"/>
            </p:cNvCxnSpPr>
            <p:nvPr/>
          </p:nvCxnSpPr>
          <p:spPr>
            <a:xfrm rot="10800000">
              <a:off x="6840000" y="3116520"/>
              <a:ext cx="281520" cy="6631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5" name="_s1031"/>
            <p:cNvCxnSpPr>
              <a:stCxn id="60" idx="0"/>
              <a:endCxn id="66" idx="2"/>
            </p:cNvCxnSpPr>
            <p:nvPr/>
          </p:nvCxnSpPr>
          <p:spPr>
            <a:xfrm flipV="1" rot="16200000">
              <a:off x="6673680" y="2291040"/>
              <a:ext cx="330840" cy="2880"/>
            </a:xfrm>
            <a:prstGeom prst="bentConnector3">
              <a:avLst>
                <a:gd name="adj1" fmla="val 4357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7" name="_s1032"/>
            <p:cNvCxnSpPr>
              <a:stCxn id="68" idx="3"/>
              <a:endCxn id="69" idx="2"/>
            </p:cNvCxnSpPr>
            <p:nvPr/>
          </p:nvCxnSpPr>
          <p:spPr>
            <a:xfrm flipV="1">
              <a:off x="4573800" y="2127600"/>
              <a:ext cx="283680" cy="26431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0" name="_s1033"/>
            <p:cNvCxnSpPr>
              <a:stCxn id="71" idx="3"/>
              <a:endCxn id="69" idx="2"/>
            </p:cNvCxnSpPr>
            <p:nvPr/>
          </p:nvCxnSpPr>
          <p:spPr>
            <a:xfrm flipV="1">
              <a:off x="4573800" y="2127240"/>
              <a:ext cx="283680" cy="16549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2" name="_s1034"/>
            <p:cNvCxnSpPr>
              <a:stCxn id="73" idx="3"/>
              <a:endCxn id="69" idx="2"/>
            </p:cNvCxnSpPr>
            <p:nvPr/>
          </p:nvCxnSpPr>
          <p:spPr>
            <a:xfrm flipV="1">
              <a:off x="4573800" y="2127240"/>
              <a:ext cx="283680" cy="6613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4" name="_s1035"/>
            <p:cNvCxnSpPr>
              <a:stCxn id="75" idx="3"/>
              <a:endCxn id="76" idx="2"/>
            </p:cNvCxnSpPr>
            <p:nvPr/>
          </p:nvCxnSpPr>
          <p:spPr>
            <a:xfrm flipV="1">
              <a:off x="2309400" y="2127240"/>
              <a:ext cx="283680" cy="36349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7" name="_s1036"/>
            <p:cNvCxnSpPr>
              <a:stCxn id="78" idx="3"/>
              <a:endCxn id="76" idx="2"/>
            </p:cNvCxnSpPr>
            <p:nvPr/>
          </p:nvCxnSpPr>
          <p:spPr>
            <a:xfrm flipV="1">
              <a:off x="2309400" y="2127240"/>
              <a:ext cx="283680" cy="2646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9" name="_s1037"/>
            <p:cNvCxnSpPr>
              <a:stCxn id="80" idx="3"/>
              <a:endCxn id="76" idx="2"/>
            </p:cNvCxnSpPr>
            <p:nvPr/>
          </p:nvCxnSpPr>
          <p:spPr>
            <a:xfrm flipV="1">
              <a:off x="2309400" y="2127240"/>
              <a:ext cx="283680" cy="16549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1" name="_s1038"/>
            <p:cNvCxnSpPr>
              <a:stCxn id="82" idx="3"/>
              <a:endCxn id="76" idx="2"/>
            </p:cNvCxnSpPr>
            <p:nvPr/>
          </p:nvCxnSpPr>
          <p:spPr>
            <a:xfrm flipV="1">
              <a:off x="2309400" y="2127240"/>
              <a:ext cx="283680" cy="6613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3" name="_s1039"/>
            <p:cNvCxnSpPr>
              <a:stCxn id="66" idx="0"/>
              <a:endCxn id="84" idx="2"/>
            </p:cNvCxnSpPr>
            <p:nvPr/>
          </p:nvCxnSpPr>
          <p:spPr>
            <a:xfrm flipV="1" rot="16200000">
              <a:off x="5611320" y="239760"/>
              <a:ext cx="330840" cy="2123280"/>
            </a:xfrm>
            <a:prstGeom prst="bentConnector3">
              <a:avLst>
                <a:gd name="adj1" fmla="val 4357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5" name="_s1040"/>
            <p:cNvCxnSpPr>
              <a:stCxn id="69" idx="0"/>
              <a:endCxn id="84" idx="2"/>
            </p:cNvCxnSpPr>
            <p:nvPr/>
          </p:nvCxnSpPr>
          <p:spPr>
            <a:xfrm flipV="1" rot="16200000">
              <a:off x="4620600" y="1230480"/>
              <a:ext cx="330840" cy="141840"/>
            </a:xfrm>
            <a:prstGeom prst="bentConnector3">
              <a:avLst>
                <a:gd name="adj1" fmla="val 4357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6" name="_s1041"/>
            <p:cNvCxnSpPr>
              <a:stCxn id="76" idx="0"/>
              <a:endCxn id="84" idx="2"/>
            </p:cNvCxnSpPr>
            <p:nvPr/>
          </p:nvCxnSpPr>
          <p:spPr>
            <a:xfrm flipH="1" flipV="1" rot="5400000">
              <a:off x="3488400" y="239760"/>
              <a:ext cx="330840" cy="2123640"/>
            </a:xfrm>
            <a:prstGeom prst="bentConnector3">
              <a:avLst>
                <a:gd name="adj1" fmla="val 43572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84" name="_s1042"/>
            <p:cNvSpPr/>
            <p:nvPr/>
          </p:nvSpPr>
          <p:spPr>
            <a:xfrm>
              <a:off x="3866400" y="476280"/>
              <a:ext cx="1698120" cy="66060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Гидросфер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_s1043"/>
            <p:cNvSpPr/>
            <p:nvPr/>
          </p:nvSpPr>
          <p:spPr>
            <a:xfrm>
              <a:off x="1743480" y="1467360"/>
              <a:ext cx="1698120" cy="66060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Мировой океан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_s1044"/>
            <p:cNvSpPr/>
            <p:nvPr/>
          </p:nvSpPr>
          <p:spPr>
            <a:xfrm>
              <a:off x="4007880" y="1467360"/>
              <a:ext cx="1698120" cy="66060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Вода в атмосфер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_s1045"/>
            <p:cNvSpPr/>
            <p:nvPr/>
          </p:nvSpPr>
          <p:spPr>
            <a:xfrm>
              <a:off x="5989320" y="1467360"/>
              <a:ext cx="1698120" cy="66060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Воды суш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_s1046"/>
            <p:cNvSpPr/>
            <p:nvPr/>
          </p:nvSpPr>
          <p:spPr>
            <a:xfrm>
              <a:off x="611280" y="2458440"/>
              <a:ext cx="1698120" cy="66060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Океан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_s1047"/>
            <p:cNvSpPr/>
            <p:nvPr/>
          </p:nvSpPr>
          <p:spPr>
            <a:xfrm>
              <a:off x="611280" y="3449520"/>
              <a:ext cx="1698120" cy="66060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Мор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_s1048"/>
            <p:cNvSpPr/>
            <p:nvPr/>
          </p:nvSpPr>
          <p:spPr>
            <a:xfrm>
              <a:off x="611280" y="4440600"/>
              <a:ext cx="1698120" cy="66060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Залив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_s1049"/>
            <p:cNvSpPr/>
            <p:nvPr/>
          </p:nvSpPr>
          <p:spPr>
            <a:xfrm>
              <a:off x="611280" y="5432040"/>
              <a:ext cx="1698120" cy="66060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Пролив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_s1050"/>
            <p:cNvSpPr/>
            <p:nvPr/>
          </p:nvSpPr>
          <p:spPr>
            <a:xfrm>
              <a:off x="2875680" y="2458440"/>
              <a:ext cx="1698120" cy="66060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Водяной па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_s1051"/>
            <p:cNvSpPr/>
            <p:nvPr/>
          </p:nvSpPr>
          <p:spPr>
            <a:xfrm>
              <a:off x="2877840" y="3449520"/>
              <a:ext cx="1695960" cy="66060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Капельки вод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_s1052"/>
            <p:cNvSpPr/>
            <p:nvPr/>
          </p:nvSpPr>
          <p:spPr>
            <a:xfrm>
              <a:off x="2877840" y="4440600"/>
              <a:ext cx="1695960" cy="65844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Кристаллики льд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_s1053"/>
            <p:cNvSpPr/>
            <p:nvPr/>
          </p:nvSpPr>
          <p:spPr>
            <a:xfrm>
              <a:off x="5991480" y="2458440"/>
              <a:ext cx="1695960" cy="65844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Рек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_s1054"/>
            <p:cNvSpPr/>
            <p:nvPr/>
          </p:nvSpPr>
          <p:spPr>
            <a:xfrm>
              <a:off x="7121520" y="3449520"/>
              <a:ext cx="1696320" cy="65844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Ледник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_s1055"/>
            <p:cNvSpPr/>
            <p:nvPr/>
          </p:nvSpPr>
          <p:spPr>
            <a:xfrm>
              <a:off x="7121520" y="4440600"/>
              <a:ext cx="1698120" cy="65844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Болот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_s1056"/>
            <p:cNvSpPr/>
            <p:nvPr/>
          </p:nvSpPr>
          <p:spPr>
            <a:xfrm>
              <a:off x="7121520" y="5432040"/>
              <a:ext cx="1696320" cy="65844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Подземные вод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Вопро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В какой части гидросферы сосредоточено больше всего вод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95280" y="1483920"/>
            <a:ext cx="8229600" cy="279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Почему же пресные воды не пересыхают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5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5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Line 2"/>
          <p:cNvSpPr/>
          <p:nvPr/>
        </p:nvSpPr>
        <p:spPr>
          <a:xfrm>
            <a:off x="3132000" y="1125360"/>
            <a:ext cx="1584360" cy="50184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3"/>
          <p:cNvSpPr/>
          <p:nvPr/>
        </p:nvSpPr>
        <p:spPr>
          <a:xfrm>
            <a:off x="3780000" y="1125360"/>
            <a:ext cx="1800000" cy="682920"/>
          </a:xfrm>
          <a:prstGeom prst="cloudCallout">
            <a:avLst>
              <a:gd name="adj1" fmla="val -18782"/>
              <a:gd name="adj2" fmla="val 67907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Oval 4"/>
          <p:cNvSpPr/>
          <p:nvPr/>
        </p:nvSpPr>
        <p:spPr>
          <a:xfrm>
            <a:off x="468360" y="333360"/>
            <a:ext cx="863640" cy="8650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5"/>
          <p:cNvSpPr/>
          <p:nvPr/>
        </p:nvSpPr>
        <p:spPr>
          <a:xfrm>
            <a:off x="900000" y="1989000"/>
            <a:ext cx="1656000" cy="611280"/>
          </a:xfrm>
          <a:prstGeom prst="cloudCallout">
            <a:avLst>
              <a:gd name="adj1" fmla="val -16060"/>
              <a:gd name="adj2" fmla="val 70000"/>
            </a:avLst>
          </a:prstGeom>
          <a:gradFill rotWithShape="0">
            <a:gsLst>
              <a:gs pos="0">
                <a:srgbClr val="ffffff"/>
              </a:gs>
              <a:gs pos="100000">
                <a:srgbClr val="0066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6"/>
          <p:cNvSpPr/>
          <p:nvPr/>
        </p:nvSpPr>
        <p:spPr>
          <a:xfrm>
            <a:off x="5796000" y="115920"/>
            <a:ext cx="1800360" cy="611280"/>
          </a:xfrm>
          <a:prstGeom prst="cloudCallout">
            <a:avLst>
              <a:gd name="adj1" fmla="val -18782"/>
              <a:gd name="adj2" fmla="val 70000"/>
            </a:avLst>
          </a:prstGeom>
          <a:gradFill rotWithShape="0">
            <a:gsLst>
              <a:gs pos="0">
                <a:srgbClr val="000000"/>
              </a:gs>
              <a:gs pos="100000">
                <a:srgbClr val="99cc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7"/>
          <p:cNvSpPr/>
          <p:nvPr/>
        </p:nvSpPr>
        <p:spPr>
          <a:xfrm>
            <a:off x="1476360" y="981000"/>
            <a:ext cx="1582920" cy="50328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8"/>
          <p:cNvSpPr/>
          <p:nvPr/>
        </p:nvSpPr>
        <p:spPr>
          <a:xfrm>
            <a:off x="1187280" y="1197000"/>
            <a:ext cx="433440" cy="50472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9"/>
          <p:cNvSpPr/>
          <p:nvPr/>
        </p:nvSpPr>
        <p:spPr>
          <a:xfrm flipV="1">
            <a:off x="179280" y="1125000"/>
            <a:ext cx="362160" cy="28764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10"/>
          <p:cNvSpPr/>
          <p:nvPr/>
        </p:nvSpPr>
        <p:spPr>
          <a:xfrm flipV="1">
            <a:off x="1476360" y="692280"/>
            <a:ext cx="863640" cy="7272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11"/>
          <p:cNvSpPr/>
          <p:nvPr/>
        </p:nvSpPr>
        <p:spPr>
          <a:xfrm flipV="1">
            <a:off x="1403280" y="189000"/>
            <a:ext cx="504720" cy="28728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12"/>
          <p:cNvSpPr/>
          <p:nvPr/>
        </p:nvSpPr>
        <p:spPr>
          <a:xfrm flipH="1">
            <a:off x="755280" y="1268280"/>
            <a:ext cx="73080" cy="57636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13"/>
          <p:cNvSpPr/>
          <p:nvPr/>
        </p:nvSpPr>
        <p:spPr>
          <a:xfrm>
            <a:off x="179280" y="189000"/>
            <a:ext cx="287280" cy="21564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14"/>
          <p:cNvSpPr/>
          <p:nvPr/>
        </p:nvSpPr>
        <p:spPr>
          <a:xfrm flipV="1">
            <a:off x="1187280" y="115560"/>
            <a:ext cx="73080" cy="18900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15"/>
          <p:cNvSpPr/>
          <p:nvPr/>
        </p:nvSpPr>
        <p:spPr>
          <a:xfrm>
            <a:off x="179280" y="765000"/>
            <a:ext cx="2160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6"/>
          <p:cNvSpPr/>
          <p:nvPr/>
        </p:nvSpPr>
        <p:spPr>
          <a:xfrm>
            <a:off x="4500720" y="1989000"/>
            <a:ext cx="1150920" cy="36036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17"/>
          <p:cNvSpPr/>
          <p:nvPr/>
        </p:nvSpPr>
        <p:spPr>
          <a:xfrm>
            <a:off x="1908000" y="1484280"/>
            <a:ext cx="719280" cy="28728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18"/>
          <p:cNvSpPr/>
          <p:nvPr/>
        </p:nvSpPr>
        <p:spPr>
          <a:xfrm>
            <a:off x="2987640" y="1773360"/>
            <a:ext cx="1297080" cy="57600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Group 19"/>
          <p:cNvGrpSpPr/>
          <p:nvPr/>
        </p:nvGrpSpPr>
        <p:grpSpPr>
          <a:xfrm>
            <a:off x="1332000" y="2708280"/>
            <a:ext cx="1657080" cy="1149120"/>
            <a:chOff x="1332000" y="2708280"/>
            <a:chExt cx="1657080" cy="1149120"/>
          </a:xfrm>
        </p:grpSpPr>
        <p:sp>
          <p:nvSpPr>
            <p:cNvPr id="107" name="Oval 20"/>
            <p:cNvSpPr/>
            <p:nvPr/>
          </p:nvSpPr>
          <p:spPr>
            <a:xfrm>
              <a:off x="1568880" y="293760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Oval 21"/>
            <p:cNvSpPr/>
            <p:nvPr/>
          </p:nvSpPr>
          <p:spPr>
            <a:xfrm>
              <a:off x="1710720" y="307548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Oval 22"/>
            <p:cNvSpPr/>
            <p:nvPr/>
          </p:nvSpPr>
          <p:spPr>
            <a:xfrm>
              <a:off x="1852920" y="321336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Oval 23"/>
            <p:cNvSpPr/>
            <p:nvPr/>
          </p:nvSpPr>
          <p:spPr>
            <a:xfrm>
              <a:off x="1994760" y="335124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Oval 24"/>
            <p:cNvSpPr/>
            <p:nvPr/>
          </p:nvSpPr>
          <p:spPr>
            <a:xfrm>
              <a:off x="2136600" y="348948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Oval 25"/>
            <p:cNvSpPr/>
            <p:nvPr/>
          </p:nvSpPr>
          <p:spPr>
            <a:xfrm>
              <a:off x="1710720" y="279936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Oval 26"/>
            <p:cNvSpPr/>
            <p:nvPr/>
          </p:nvSpPr>
          <p:spPr>
            <a:xfrm>
              <a:off x="1852920" y="293760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Oval 27"/>
            <p:cNvSpPr/>
            <p:nvPr/>
          </p:nvSpPr>
          <p:spPr>
            <a:xfrm>
              <a:off x="1994760" y="307548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Oval 28"/>
            <p:cNvSpPr/>
            <p:nvPr/>
          </p:nvSpPr>
          <p:spPr>
            <a:xfrm>
              <a:off x="2136600" y="321336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Oval 29"/>
            <p:cNvSpPr/>
            <p:nvPr/>
          </p:nvSpPr>
          <p:spPr>
            <a:xfrm>
              <a:off x="2278440" y="335124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Oval 30"/>
            <p:cNvSpPr/>
            <p:nvPr/>
          </p:nvSpPr>
          <p:spPr>
            <a:xfrm>
              <a:off x="1947600" y="270828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Oval 31"/>
            <p:cNvSpPr/>
            <p:nvPr/>
          </p:nvSpPr>
          <p:spPr>
            <a:xfrm>
              <a:off x="2089800" y="284616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Oval 32"/>
            <p:cNvSpPr/>
            <p:nvPr/>
          </p:nvSpPr>
          <p:spPr>
            <a:xfrm>
              <a:off x="2231640" y="298404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Oval 33"/>
            <p:cNvSpPr/>
            <p:nvPr/>
          </p:nvSpPr>
          <p:spPr>
            <a:xfrm>
              <a:off x="2373480" y="312228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Oval 34"/>
            <p:cNvSpPr/>
            <p:nvPr/>
          </p:nvSpPr>
          <p:spPr>
            <a:xfrm>
              <a:off x="2515680" y="326016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Oval 35"/>
            <p:cNvSpPr/>
            <p:nvPr/>
          </p:nvSpPr>
          <p:spPr>
            <a:xfrm>
              <a:off x="1332000" y="289188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Oval 36"/>
            <p:cNvSpPr/>
            <p:nvPr/>
          </p:nvSpPr>
          <p:spPr>
            <a:xfrm>
              <a:off x="2231640" y="270828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Oval 37"/>
            <p:cNvSpPr/>
            <p:nvPr/>
          </p:nvSpPr>
          <p:spPr>
            <a:xfrm>
              <a:off x="1378800" y="307548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Oval 38"/>
            <p:cNvSpPr/>
            <p:nvPr/>
          </p:nvSpPr>
          <p:spPr>
            <a:xfrm>
              <a:off x="1568880" y="321444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Oval 39"/>
            <p:cNvSpPr/>
            <p:nvPr/>
          </p:nvSpPr>
          <p:spPr>
            <a:xfrm>
              <a:off x="1427040" y="330588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Oval 40"/>
            <p:cNvSpPr/>
            <p:nvPr/>
          </p:nvSpPr>
          <p:spPr>
            <a:xfrm>
              <a:off x="1568880" y="344376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Oval 41"/>
            <p:cNvSpPr/>
            <p:nvPr/>
          </p:nvSpPr>
          <p:spPr>
            <a:xfrm>
              <a:off x="1710720" y="358164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Oval 42"/>
            <p:cNvSpPr/>
            <p:nvPr/>
          </p:nvSpPr>
          <p:spPr>
            <a:xfrm>
              <a:off x="1757880" y="3398040"/>
              <a:ext cx="4752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43"/>
            <p:cNvSpPr/>
            <p:nvPr/>
          </p:nvSpPr>
          <p:spPr>
            <a:xfrm>
              <a:off x="1899720" y="353592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44"/>
            <p:cNvSpPr/>
            <p:nvPr/>
          </p:nvSpPr>
          <p:spPr>
            <a:xfrm>
              <a:off x="1473840" y="358164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Oval 45"/>
            <p:cNvSpPr/>
            <p:nvPr/>
          </p:nvSpPr>
          <p:spPr>
            <a:xfrm>
              <a:off x="2373480" y="284616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Oval 46"/>
            <p:cNvSpPr/>
            <p:nvPr/>
          </p:nvSpPr>
          <p:spPr>
            <a:xfrm>
              <a:off x="2515680" y="298404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Oval 47"/>
            <p:cNvSpPr/>
            <p:nvPr/>
          </p:nvSpPr>
          <p:spPr>
            <a:xfrm>
              <a:off x="2657520" y="312228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Oval 48"/>
            <p:cNvSpPr/>
            <p:nvPr/>
          </p:nvSpPr>
          <p:spPr>
            <a:xfrm>
              <a:off x="2799720" y="3260160"/>
              <a:ext cx="4752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49"/>
            <p:cNvSpPr/>
            <p:nvPr/>
          </p:nvSpPr>
          <p:spPr>
            <a:xfrm>
              <a:off x="2941200" y="339804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50"/>
            <p:cNvSpPr/>
            <p:nvPr/>
          </p:nvSpPr>
          <p:spPr>
            <a:xfrm>
              <a:off x="2657520" y="339804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51"/>
            <p:cNvSpPr/>
            <p:nvPr/>
          </p:nvSpPr>
          <p:spPr>
            <a:xfrm>
              <a:off x="2799720" y="3535920"/>
              <a:ext cx="4752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52"/>
            <p:cNvSpPr/>
            <p:nvPr/>
          </p:nvSpPr>
          <p:spPr>
            <a:xfrm>
              <a:off x="2468520" y="349020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53"/>
            <p:cNvSpPr/>
            <p:nvPr/>
          </p:nvSpPr>
          <p:spPr>
            <a:xfrm>
              <a:off x="2325600" y="3628440"/>
              <a:ext cx="4752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54"/>
            <p:cNvSpPr/>
            <p:nvPr/>
          </p:nvSpPr>
          <p:spPr>
            <a:xfrm>
              <a:off x="2089800" y="372060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55"/>
            <p:cNvSpPr/>
            <p:nvPr/>
          </p:nvSpPr>
          <p:spPr>
            <a:xfrm>
              <a:off x="1615680" y="371952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56"/>
            <p:cNvSpPr/>
            <p:nvPr/>
          </p:nvSpPr>
          <p:spPr>
            <a:xfrm>
              <a:off x="1852920" y="376632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Group 57"/>
          <p:cNvGrpSpPr/>
          <p:nvPr/>
        </p:nvGrpSpPr>
        <p:grpSpPr>
          <a:xfrm>
            <a:off x="3708360" y="1989000"/>
            <a:ext cx="2521080" cy="1798920"/>
            <a:chOff x="3708360" y="1989000"/>
            <a:chExt cx="2521080" cy="1798920"/>
          </a:xfrm>
        </p:grpSpPr>
        <p:sp>
          <p:nvSpPr>
            <p:cNvPr id="145" name="Oval 58"/>
            <p:cNvSpPr/>
            <p:nvPr/>
          </p:nvSpPr>
          <p:spPr>
            <a:xfrm>
              <a:off x="4068720" y="234792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59"/>
            <p:cNvSpPr/>
            <p:nvPr/>
          </p:nvSpPr>
          <p:spPr>
            <a:xfrm>
              <a:off x="4284720" y="256392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Oval 60"/>
            <p:cNvSpPr/>
            <p:nvPr/>
          </p:nvSpPr>
          <p:spPr>
            <a:xfrm>
              <a:off x="4500720" y="277956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Oval 61"/>
            <p:cNvSpPr/>
            <p:nvPr/>
          </p:nvSpPr>
          <p:spPr>
            <a:xfrm>
              <a:off x="4716720" y="299556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Oval 62"/>
            <p:cNvSpPr/>
            <p:nvPr/>
          </p:nvSpPr>
          <p:spPr>
            <a:xfrm>
              <a:off x="4932360" y="321156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Oval 63"/>
            <p:cNvSpPr/>
            <p:nvPr/>
          </p:nvSpPr>
          <p:spPr>
            <a:xfrm>
              <a:off x="4284720" y="213192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Oval 64"/>
            <p:cNvSpPr/>
            <p:nvPr/>
          </p:nvSpPr>
          <p:spPr>
            <a:xfrm>
              <a:off x="4500720" y="234792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Oval 65"/>
            <p:cNvSpPr/>
            <p:nvPr/>
          </p:nvSpPr>
          <p:spPr>
            <a:xfrm>
              <a:off x="4716720" y="256392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Oval 66"/>
            <p:cNvSpPr/>
            <p:nvPr/>
          </p:nvSpPr>
          <p:spPr>
            <a:xfrm>
              <a:off x="4932360" y="277956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Oval 67"/>
            <p:cNvSpPr/>
            <p:nvPr/>
          </p:nvSpPr>
          <p:spPr>
            <a:xfrm>
              <a:off x="5148360" y="299556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Oval 68"/>
            <p:cNvSpPr/>
            <p:nvPr/>
          </p:nvSpPr>
          <p:spPr>
            <a:xfrm>
              <a:off x="4645080" y="198900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Oval 69"/>
            <p:cNvSpPr/>
            <p:nvPr/>
          </p:nvSpPr>
          <p:spPr>
            <a:xfrm>
              <a:off x="4861080" y="220500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Oval 70"/>
            <p:cNvSpPr/>
            <p:nvPr/>
          </p:nvSpPr>
          <p:spPr>
            <a:xfrm>
              <a:off x="5077080" y="242100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Oval 71"/>
            <p:cNvSpPr/>
            <p:nvPr/>
          </p:nvSpPr>
          <p:spPr>
            <a:xfrm>
              <a:off x="5292720" y="2637000"/>
              <a:ext cx="73080" cy="14256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Oval 72"/>
            <p:cNvSpPr/>
            <p:nvPr/>
          </p:nvSpPr>
          <p:spPr>
            <a:xfrm>
              <a:off x="5508720" y="285264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Oval 73"/>
            <p:cNvSpPr/>
            <p:nvPr/>
          </p:nvSpPr>
          <p:spPr>
            <a:xfrm>
              <a:off x="3708360" y="2276640"/>
              <a:ext cx="73080" cy="14256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Oval 74"/>
            <p:cNvSpPr/>
            <p:nvPr/>
          </p:nvSpPr>
          <p:spPr>
            <a:xfrm>
              <a:off x="5077080" y="198900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Oval 75"/>
            <p:cNvSpPr/>
            <p:nvPr/>
          </p:nvSpPr>
          <p:spPr>
            <a:xfrm>
              <a:off x="3780000" y="256392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Oval 76"/>
            <p:cNvSpPr/>
            <p:nvPr/>
          </p:nvSpPr>
          <p:spPr>
            <a:xfrm>
              <a:off x="4068720" y="278136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Oval 77"/>
            <p:cNvSpPr/>
            <p:nvPr/>
          </p:nvSpPr>
          <p:spPr>
            <a:xfrm>
              <a:off x="3853080" y="292428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Oval 78"/>
            <p:cNvSpPr/>
            <p:nvPr/>
          </p:nvSpPr>
          <p:spPr>
            <a:xfrm>
              <a:off x="4068720" y="313992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Oval 79"/>
            <p:cNvSpPr/>
            <p:nvPr/>
          </p:nvSpPr>
          <p:spPr>
            <a:xfrm>
              <a:off x="4284720" y="335592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Oval 80"/>
            <p:cNvSpPr/>
            <p:nvPr/>
          </p:nvSpPr>
          <p:spPr>
            <a:xfrm>
              <a:off x="4356360" y="3068640"/>
              <a:ext cx="7272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Oval 81"/>
            <p:cNvSpPr/>
            <p:nvPr/>
          </p:nvSpPr>
          <p:spPr>
            <a:xfrm>
              <a:off x="4572000" y="328464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Oval 82"/>
            <p:cNvSpPr/>
            <p:nvPr/>
          </p:nvSpPr>
          <p:spPr>
            <a:xfrm>
              <a:off x="3924360" y="335592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Oval 83"/>
            <p:cNvSpPr/>
            <p:nvPr/>
          </p:nvSpPr>
          <p:spPr>
            <a:xfrm>
              <a:off x="5292720" y="220500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Oval 84"/>
            <p:cNvSpPr/>
            <p:nvPr/>
          </p:nvSpPr>
          <p:spPr>
            <a:xfrm>
              <a:off x="5508720" y="242100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Oval 85"/>
            <p:cNvSpPr/>
            <p:nvPr/>
          </p:nvSpPr>
          <p:spPr>
            <a:xfrm>
              <a:off x="5724720" y="2637000"/>
              <a:ext cx="73080" cy="14256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Oval 86"/>
            <p:cNvSpPr/>
            <p:nvPr/>
          </p:nvSpPr>
          <p:spPr>
            <a:xfrm>
              <a:off x="5940720" y="2852640"/>
              <a:ext cx="7272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Oval 87"/>
            <p:cNvSpPr/>
            <p:nvPr/>
          </p:nvSpPr>
          <p:spPr>
            <a:xfrm>
              <a:off x="6156360" y="306864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Oval 88"/>
            <p:cNvSpPr/>
            <p:nvPr/>
          </p:nvSpPr>
          <p:spPr>
            <a:xfrm>
              <a:off x="5724720" y="306864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Oval 89"/>
            <p:cNvSpPr/>
            <p:nvPr/>
          </p:nvSpPr>
          <p:spPr>
            <a:xfrm>
              <a:off x="5940720" y="3284640"/>
              <a:ext cx="7272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Oval 90"/>
            <p:cNvSpPr/>
            <p:nvPr/>
          </p:nvSpPr>
          <p:spPr>
            <a:xfrm>
              <a:off x="5437440" y="321300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Oval 91"/>
            <p:cNvSpPr/>
            <p:nvPr/>
          </p:nvSpPr>
          <p:spPr>
            <a:xfrm>
              <a:off x="5220000" y="3429000"/>
              <a:ext cx="7272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Oval 92"/>
            <p:cNvSpPr/>
            <p:nvPr/>
          </p:nvSpPr>
          <p:spPr>
            <a:xfrm>
              <a:off x="4861080" y="357336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Oval 93"/>
            <p:cNvSpPr/>
            <p:nvPr/>
          </p:nvSpPr>
          <p:spPr>
            <a:xfrm>
              <a:off x="4140360" y="357192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Oval 94"/>
            <p:cNvSpPr/>
            <p:nvPr/>
          </p:nvSpPr>
          <p:spPr>
            <a:xfrm>
              <a:off x="4500720" y="364500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" name="AutoShape 95"/>
          <p:cNvSpPr/>
          <p:nvPr/>
        </p:nvSpPr>
        <p:spPr>
          <a:xfrm>
            <a:off x="7308720" y="1052640"/>
            <a:ext cx="216000" cy="193680"/>
          </a:xfrm>
          <a:custGeom>
            <a:avLst/>
            <a:gdLst/>
            <a:ahLst/>
            <a:rect l="l" t="t" r="r" b="b"/>
            <a:pathLst>
              <a:path w="215900" h="193675">
                <a:moveTo>
                  <a:pt x="0" y="73977"/>
                </a:moveTo>
                <a:lnTo>
                  <a:pt x="82467" y="73978"/>
                </a:lnTo>
                <a:lnTo>
                  <a:pt x="107950" y="0"/>
                </a:lnTo>
                <a:lnTo>
                  <a:pt x="133433" y="73978"/>
                </a:lnTo>
                <a:lnTo>
                  <a:pt x="215900" y="73977"/>
                </a:lnTo>
                <a:lnTo>
                  <a:pt x="149182" y="119697"/>
                </a:lnTo>
                <a:lnTo>
                  <a:pt x="174667" y="193675"/>
                </a:lnTo>
                <a:lnTo>
                  <a:pt x="107950" y="147954"/>
                </a:lnTo>
                <a:lnTo>
                  <a:pt x="41233" y="193675"/>
                </a:lnTo>
                <a:lnTo>
                  <a:pt x="66718" y="119697"/>
                </a:lnTo>
                <a:lnTo>
                  <a:pt x="0" y="73977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96"/>
          <p:cNvSpPr/>
          <p:nvPr/>
        </p:nvSpPr>
        <p:spPr>
          <a:xfrm>
            <a:off x="7308720" y="765000"/>
            <a:ext cx="216000" cy="193680"/>
          </a:xfrm>
          <a:custGeom>
            <a:avLst/>
            <a:gdLst/>
            <a:ahLst/>
            <a:rect l="l" t="t" r="r" b="b"/>
            <a:pathLst>
              <a:path w="215900" h="193675">
                <a:moveTo>
                  <a:pt x="0" y="73977"/>
                </a:moveTo>
                <a:lnTo>
                  <a:pt x="82467" y="73978"/>
                </a:lnTo>
                <a:lnTo>
                  <a:pt x="107950" y="0"/>
                </a:lnTo>
                <a:lnTo>
                  <a:pt x="133433" y="73978"/>
                </a:lnTo>
                <a:lnTo>
                  <a:pt x="215900" y="73977"/>
                </a:lnTo>
                <a:lnTo>
                  <a:pt x="149182" y="119697"/>
                </a:lnTo>
                <a:lnTo>
                  <a:pt x="174667" y="193675"/>
                </a:lnTo>
                <a:lnTo>
                  <a:pt x="107950" y="147954"/>
                </a:lnTo>
                <a:lnTo>
                  <a:pt x="41233" y="193675"/>
                </a:lnTo>
                <a:lnTo>
                  <a:pt x="66718" y="119697"/>
                </a:lnTo>
                <a:lnTo>
                  <a:pt x="0" y="73977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97"/>
          <p:cNvSpPr/>
          <p:nvPr/>
        </p:nvSpPr>
        <p:spPr>
          <a:xfrm>
            <a:off x="6948360" y="1125360"/>
            <a:ext cx="216000" cy="193680"/>
          </a:xfrm>
          <a:custGeom>
            <a:avLst/>
            <a:gdLst/>
            <a:ahLst/>
            <a:rect l="l" t="t" r="r" b="b"/>
            <a:pathLst>
              <a:path w="215900" h="193675">
                <a:moveTo>
                  <a:pt x="0" y="73977"/>
                </a:moveTo>
                <a:lnTo>
                  <a:pt x="82467" y="73978"/>
                </a:lnTo>
                <a:lnTo>
                  <a:pt x="107950" y="0"/>
                </a:lnTo>
                <a:lnTo>
                  <a:pt x="133433" y="73978"/>
                </a:lnTo>
                <a:lnTo>
                  <a:pt x="215900" y="73977"/>
                </a:lnTo>
                <a:lnTo>
                  <a:pt x="149182" y="119697"/>
                </a:lnTo>
                <a:lnTo>
                  <a:pt x="174667" y="193675"/>
                </a:lnTo>
                <a:lnTo>
                  <a:pt x="107950" y="147954"/>
                </a:lnTo>
                <a:lnTo>
                  <a:pt x="41233" y="193675"/>
                </a:lnTo>
                <a:lnTo>
                  <a:pt x="66718" y="119697"/>
                </a:lnTo>
                <a:lnTo>
                  <a:pt x="0" y="73977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98"/>
          <p:cNvSpPr/>
          <p:nvPr/>
        </p:nvSpPr>
        <p:spPr>
          <a:xfrm>
            <a:off x="7740720" y="907920"/>
            <a:ext cx="216000" cy="193680"/>
          </a:xfrm>
          <a:custGeom>
            <a:avLst/>
            <a:gdLst/>
            <a:ahLst/>
            <a:rect l="l" t="t" r="r" b="b"/>
            <a:pathLst>
              <a:path w="215900" h="193675">
                <a:moveTo>
                  <a:pt x="0" y="73977"/>
                </a:moveTo>
                <a:lnTo>
                  <a:pt x="82467" y="73978"/>
                </a:lnTo>
                <a:lnTo>
                  <a:pt x="107950" y="0"/>
                </a:lnTo>
                <a:lnTo>
                  <a:pt x="133433" y="73978"/>
                </a:lnTo>
                <a:lnTo>
                  <a:pt x="215900" y="73977"/>
                </a:lnTo>
                <a:lnTo>
                  <a:pt x="149182" y="119697"/>
                </a:lnTo>
                <a:lnTo>
                  <a:pt x="174667" y="193675"/>
                </a:lnTo>
                <a:lnTo>
                  <a:pt x="107950" y="147954"/>
                </a:lnTo>
                <a:lnTo>
                  <a:pt x="41233" y="193675"/>
                </a:lnTo>
                <a:lnTo>
                  <a:pt x="66718" y="119697"/>
                </a:lnTo>
                <a:lnTo>
                  <a:pt x="0" y="73977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99"/>
          <p:cNvSpPr/>
          <p:nvPr/>
        </p:nvSpPr>
        <p:spPr>
          <a:xfrm>
            <a:off x="6588000" y="1341360"/>
            <a:ext cx="216000" cy="193680"/>
          </a:xfrm>
          <a:custGeom>
            <a:avLst/>
            <a:gdLst/>
            <a:ahLst/>
            <a:rect l="l" t="t" r="r" b="b"/>
            <a:pathLst>
              <a:path w="215900" h="193675">
                <a:moveTo>
                  <a:pt x="0" y="73977"/>
                </a:moveTo>
                <a:lnTo>
                  <a:pt x="82467" y="73978"/>
                </a:lnTo>
                <a:lnTo>
                  <a:pt x="107950" y="0"/>
                </a:lnTo>
                <a:lnTo>
                  <a:pt x="133433" y="73978"/>
                </a:lnTo>
                <a:lnTo>
                  <a:pt x="215900" y="73977"/>
                </a:lnTo>
                <a:lnTo>
                  <a:pt x="149182" y="119697"/>
                </a:lnTo>
                <a:lnTo>
                  <a:pt x="174667" y="193675"/>
                </a:lnTo>
                <a:lnTo>
                  <a:pt x="107950" y="147954"/>
                </a:lnTo>
                <a:lnTo>
                  <a:pt x="41233" y="193675"/>
                </a:lnTo>
                <a:lnTo>
                  <a:pt x="66718" y="119697"/>
                </a:lnTo>
                <a:lnTo>
                  <a:pt x="0" y="73977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100"/>
          <p:cNvSpPr/>
          <p:nvPr/>
        </p:nvSpPr>
        <p:spPr>
          <a:xfrm>
            <a:off x="6516720" y="1052640"/>
            <a:ext cx="216000" cy="193680"/>
          </a:xfrm>
          <a:custGeom>
            <a:avLst/>
            <a:gdLst/>
            <a:ahLst/>
            <a:rect l="l" t="t" r="r" b="b"/>
            <a:pathLst>
              <a:path w="215900" h="193675">
                <a:moveTo>
                  <a:pt x="0" y="73977"/>
                </a:moveTo>
                <a:lnTo>
                  <a:pt x="82467" y="73978"/>
                </a:lnTo>
                <a:lnTo>
                  <a:pt x="107950" y="0"/>
                </a:lnTo>
                <a:lnTo>
                  <a:pt x="133433" y="73978"/>
                </a:lnTo>
                <a:lnTo>
                  <a:pt x="215900" y="73977"/>
                </a:lnTo>
                <a:lnTo>
                  <a:pt x="149182" y="119697"/>
                </a:lnTo>
                <a:lnTo>
                  <a:pt x="174667" y="193675"/>
                </a:lnTo>
                <a:lnTo>
                  <a:pt x="107950" y="147954"/>
                </a:lnTo>
                <a:lnTo>
                  <a:pt x="41233" y="193675"/>
                </a:lnTo>
                <a:lnTo>
                  <a:pt x="66718" y="119697"/>
                </a:lnTo>
                <a:lnTo>
                  <a:pt x="0" y="73977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utoShape 101"/>
          <p:cNvSpPr/>
          <p:nvPr/>
        </p:nvSpPr>
        <p:spPr>
          <a:xfrm>
            <a:off x="7596360" y="1125360"/>
            <a:ext cx="215640" cy="193680"/>
          </a:xfrm>
          <a:custGeom>
            <a:avLst/>
            <a:gdLst/>
            <a:ahLst/>
            <a:rect l="l" t="t" r="r" b="b"/>
            <a:pathLst>
              <a:path w="215900" h="193675">
                <a:moveTo>
                  <a:pt x="0" y="73977"/>
                </a:moveTo>
                <a:lnTo>
                  <a:pt x="82467" y="73978"/>
                </a:lnTo>
                <a:lnTo>
                  <a:pt x="107950" y="0"/>
                </a:lnTo>
                <a:lnTo>
                  <a:pt x="133433" y="73978"/>
                </a:lnTo>
                <a:lnTo>
                  <a:pt x="215900" y="73977"/>
                </a:lnTo>
                <a:lnTo>
                  <a:pt x="149182" y="119697"/>
                </a:lnTo>
                <a:lnTo>
                  <a:pt x="174667" y="193675"/>
                </a:lnTo>
                <a:lnTo>
                  <a:pt x="107950" y="147954"/>
                </a:lnTo>
                <a:lnTo>
                  <a:pt x="41233" y="193675"/>
                </a:lnTo>
                <a:lnTo>
                  <a:pt x="66718" y="119697"/>
                </a:lnTo>
                <a:lnTo>
                  <a:pt x="0" y="73977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AutoShape 102"/>
          <p:cNvSpPr/>
          <p:nvPr/>
        </p:nvSpPr>
        <p:spPr>
          <a:xfrm>
            <a:off x="6948360" y="765000"/>
            <a:ext cx="216000" cy="193680"/>
          </a:xfrm>
          <a:custGeom>
            <a:avLst/>
            <a:gdLst/>
            <a:ahLst/>
            <a:rect l="l" t="t" r="r" b="b"/>
            <a:pathLst>
              <a:path w="215900" h="193675">
                <a:moveTo>
                  <a:pt x="0" y="73977"/>
                </a:moveTo>
                <a:lnTo>
                  <a:pt x="82467" y="73978"/>
                </a:lnTo>
                <a:lnTo>
                  <a:pt x="107950" y="0"/>
                </a:lnTo>
                <a:lnTo>
                  <a:pt x="133433" y="73978"/>
                </a:lnTo>
                <a:lnTo>
                  <a:pt x="215900" y="73977"/>
                </a:lnTo>
                <a:lnTo>
                  <a:pt x="149182" y="119697"/>
                </a:lnTo>
                <a:lnTo>
                  <a:pt x="174667" y="193675"/>
                </a:lnTo>
                <a:lnTo>
                  <a:pt x="107950" y="147954"/>
                </a:lnTo>
                <a:lnTo>
                  <a:pt x="41233" y="193675"/>
                </a:lnTo>
                <a:lnTo>
                  <a:pt x="66718" y="119697"/>
                </a:lnTo>
                <a:lnTo>
                  <a:pt x="0" y="73977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utoShape 103"/>
          <p:cNvSpPr/>
          <p:nvPr/>
        </p:nvSpPr>
        <p:spPr>
          <a:xfrm>
            <a:off x="6877080" y="836640"/>
            <a:ext cx="216000" cy="193680"/>
          </a:xfrm>
          <a:custGeom>
            <a:avLst/>
            <a:gdLst/>
            <a:ahLst/>
            <a:rect l="l" t="t" r="r" b="b"/>
            <a:pathLst>
              <a:path w="215900" h="193675">
                <a:moveTo>
                  <a:pt x="0" y="73977"/>
                </a:moveTo>
                <a:lnTo>
                  <a:pt x="82467" y="73978"/>
                </a:lnTo>
                <a:lnTo>
                  <a:pt x="107950" y="0"/>
                </a:lnTo>
                <a:lnTo>
                  <a:pt x="133433" y="73978"/>
                </a:lnTo>
                <a:lnTo>
                  <a:pt x="215900" y="73977"/>
                </a:lnTo>
                <a:lnTo>
                  <a:pt x="149182" y="119697"/>
                </a:lnTo>
                <a:lnTo>
                  <a:pt x="174667" y="193675"/>
                </a:lnTo>
                <a:lnTo>
                  <a:pt x="107950" y="147954"/>
                </a:lnTo>
                <a:lnTo>
                  <a:pt x="41233" y="193675"/>
                </a:lnTo>
                <a:lnTo>
                  <a:pt x="66718" y="119697"/>
                </a:lnTo>
                <a:lnTo>
                  <a:pt x="0" y="73977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104"/>
          <p:cNvSpPr/>
          <p:nvPr/>
        </p:nvSpPr>
        <p:spPr>
          <a:xfrm>
            <a:off x="8028000" y="981000"/>
            <a:ext cx="216000" cy="193680"/>
          </a:xfrm>
          <a:custGeom>
            <a:avLst/>
            <a:gdLst/>
            <a:ahLst/>
            <a:rect l="l" t="t" r="r" b="b"/>
            <a:pathLst>
              <a:path w="215900" h="193675">
                <a:moveTo>
                  <a:pt x="0" y="73977"/>
                </a:moveTo>
                <a:lnTo>
                  <a:pt x="82467" y="73978"/>
                </a:lnTo>
                <a:lnTo>
                  <a:pt x="107950" y="0"/>
                </a:lnTo>
                <a:lnTo>
                  <a:pt x="133433" y="73978"/>
                </a:lnTo>
                <a:lnTo>
                  <a:pt x="215900" y="73977"/>
                </a:lnTo>
                <a:lnTo>
                  <a:pt x="149182" y="119697"/>
                </a:lnTo>
                <a:lnTo>
                  <a:pt x="174667" y="193675"/>
                </a:lnTo>
                <a:lnTo>
                  <a:pt x="107950" y="147954"/>
                </a:lnTo>
                <a:lnTo>
                  <a:pt x="41233" y="193675"/>
                </a:lnTo>
                <a:lnTo>
                  <a:pt x="66718" y="119697"/>
                </a:lnTo>
                <a:lnTo>
                  <a:pt x="0" y="73977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105"/>
          <p:cNvSpPr/>
          <p:nvPr/>
        </p:nvSpPr>
        <p:spPr>
          <a:xfrm>
            <a:off x="7812000" y="1341360"/>
            <a:ext cx="216000" cy="193680"/>
          </a:xfrm>
          <a:custGeom>
            <a:avLst/>
            <a:gdLst/>
            <a:ahLst/>
            <a:rect l="l" t="t" r="r" b="b"/>
            <a:pathLst>
              <a:path w="215900" h="193675">
                <a:moveTo>
                  <a:pt x="0" y="73977"/>
                </a:moveTo>
                <a:lnTo>
                  <a:pt x="82467" y="73978"/>
                </a:lnTo>
                <a:lnTo>
                  <a:pt x="107950" y="0"/>
                </a:lnTo>
                <a:lnTo>
                  <a:pt x="133433" y="73978"/>
                </a:lnTo>
                <a:lnTo>
                  <a:pt x="215900" y="73977"/>
                </a:lnTo>
                <a:lnTo>
                  <a:pt x="149182" y="119697"/>
                </a:lnTo>
                <a:lnTo>
                  <a:pt x="174667" y="193675"/>
                </a:lnTo>
                <a:lnTo>
                  <a:pt x="107950" y="147954"/>
                </a:lnTo>
                <a:lnTo>
                  <a:pt x="41233" y="193675"/>
                </a:lnTo>
                <a:lnTo>
                  <a:pt x="66718" y="119697"/>
                </a:lnTo>
                <a:lnTo>
                  <a:pt x="0" y="73977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106"/>
          <p:cNvSpPr/>
          <p:nvPr/>
        </p:nvSpPr>
        <p:spPr>
          <a:xfrm>
            <a:off x="6877080" y="1413000"/>
            <a:ext cx="216000" cy="193680"/>
          </a:xfrm>
          <a:custGeom>
            <a:avLst/>
            <a:gdLst/>
            <a:ahLst/>
            <a:rect l="l" t="t" r="r" b="b"/>
            <a:pathLst>
              <a:path w="215900" h="193675">
                <a:moveTo>
                  <a:pt x="0" y="73977"/>
                </a:moveTo>
                <a:lnTo>
                  <a:pt x="82467" y="73978"/>
                </a:lnTo>
                <a:lnTo>
                  <a:pt x="107950" y="0"/>
                </a:lnTo>
                <a:lnTo>
                  <a:pt x="133433" y="73978"/>
                </a:lnTo>
                <a:lnTo>
                  <a:pt x="215900" y="73977"/>
                </a:lnTo>
                <a:lnTo>
                  <a:pt x="149182" y="119697"/>
                </a:lnTo>
                <a:lnTo>
                  <a:pt x="174667" y="193675"/>
                </a:lnTo>
                <a:lnTo>
                  <a:pt x="107950" y="147954"/>
                </a:lnTo>
                <a:lnTo>
                  <a:pt x="41233" y="193675"/>
                </a:lnTo>
                <a:lnTo>
                  <a:pt x="66718" y="119697"/>
                </a:lnTo>
                <a:lnTo>
                  <a:pt x="0" y="73977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107"/>
          <p:cNvSpPr/>
          <p:nvPr/>
        </p:nvSpPr>
        <p:spPr>
          <a:xfrm>
            <a:off x="7308720" y="1413000"/>
            <a:ext cx="216000" cy="193680"/>
          </a:xfrm>
          <a:custGeom>
            <a:avLst/>
            <a:gdLst/>
            <a:ahLst/>
            <a:rect l="l" t="t" r="r" b="b"/>
            <a:pathLst>
              <a:path w="215900" h="193675">
                <a:moveTo>
                  <a:pt x="0" y="73977"/>
                </a:moveTo>
                <a:lnTo>
                  <a:pt x="82467" y="73978"/>
                </a:lnTo>
                <a:lnTo>
                  <a:pt x="107950" y="0"/>
                </a:lnTo>
                <a:lnTo>
                  <a:pt x="133433" y="73978"/>
                </a:lnTo>
                <a:lnTo>
                  <a:pt x="215900" y="73977"/>
                </a:lnTo>
                <a:lnTo>
                  <a:pt x="149182" y="119697"/>
                </a:lnTo>
                <a:lnTo>
                  <a:pt x="174667" y="193675"/>
                </a:lnTo>
                <a:lnTo>
                  <a:pt x="107950" y="147954"/>
                </a:lnTo>
                <a:lnTo>
                  <a:pt x="41233" y="193675"/>
                </a:lnTo>
                <a:lnTo>
                  <a:pt x="66718" y="119697"/>
                </a:lnTo>
                <a:lnTo>
                  <a:pt x="0" y="73977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AutoShape 108"/>
          <p:cNvSpPr/>
          <p:nvPr/>
        </p:nvSpPr>
        <p:spPr>
          <a:xfrm>
            <a:off x="7308720" y="1700280"/>
            <a:ext cx="216000" cy="193680"/>
          </a:xfrm>
          <a:custGeom>
            <a:avLst/>
            <a:gdLst/>
            <a:ahLst/>
            <a:rect l="l" t="t" r="r" b="b"/>
            <a:pathLst>
              <a:path w="215900" h="193675">
                <a:moveTo>
                  <a:pt x="0" y="73977"/>
                </a:moveTo>
                <a:lnTo>
                  <a:pt x="82467" y="73978"/>
                </a:lnTo>
                <a:lnTo>
                  <a:pt x="107950" y="0"/>
                </a:lnTo>
                <a:lnTo>
                  <a:pt x="133433" y="73978"/>
                </a:lnTo>
                <a:lnTo>
                  <a:pt x="215900" y="73977"/>
                </a:lnTo>
                <a:lnTo>
                  <a:pt x="149182" y="119697"/>
                </a:lnTo>
                <a:lnTo>
                  <a:pt x="174667" y="193675"/>
                </a:lnTo>
                <a:lnTo>
                  <a:pt x="107950" y="147954"/>
                </a:lnTo>
                <a:lnTo>
                  <a:pt x="41233" y="193675"/>
                </a:lnTo>
                <a:lnTo>
                  <a:pt x="66718" y="119697"/>
                </a:lnTo>
                <a:lnTo>
                  <a:pt x="0" y="73977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AutoShape 109"/>
          <p:cNvSpPr/>
          <p:nvPr/>
        </p:nvSpPr>
        <p:spPr>
          <a:xfrm>
            <a:off x="6732720" y="1628640"/>
            <a:ext cx="215640" cy="193680"/>
          </a:xfrm>
          <a:custGeom>
            <a:avLst/>
            <a:gdLst/>
            <a:ahLst/>
            <a:rect l="l" t="t" r="r" b="b"/>
            <a:pathLst>
              <a:path w="215900" h="193675">
                <a:moveTo>
                  <a:pt x="0" y="73977"/>
                </a:moveTo>
                <a:lnTo>
                  <a:pt x="82467" y="73978"/>
                </a:lnTo>
                <a:lnTo>
                  <a:pt x="107950" y="0"/>
                </a:lnTo>
                <a:lnTo>
                  <a:pt x="133433" y="73978"/>
                </a:lnTo>
                <a:lnTo>
                  <a:pt x="215900" y="73977"/>
                </a:lnTo>
                <a:lnTo>
                  <a:pt x="149182" y="119697"/>
                </a:lnTo>
                <a:lnTo>
                  <a:pt x="174667" y="193675"/>
                </a:lnTo>
                <a:lnTo>
                  <a:pt x="107950" y="147954"/>
                </a:lnTo>
                <a:lnTo>
                  <a:pt x="41233" y="193675"/>
                </a:lnTo>
                <a:lnTo>
                  <a:pt x="66718" y="119697"/>
                </a:lnTo>
                <a:lnTo>
                  <a:pt x="0" y="73977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utoShape 110"/>
          <p:cNvSpPr/>
          <p:nvPr/>
        </p:nvSpPr>
        <p:spPr>
          <a:xfrm rot="21318600">
            <a:off x="2700000" y="1483920"/>
            <a:ext cx="1008000" cy="216000"/>
          </a:xfrm>
          <a:custGeom>
            <a:avLst/>
            <a:gdLst>
              <a:gd name="textAreaLeft" fmla="*/ 176400 w 1008000"/>
              <a:gd name="textAreaRight" fmla="*/ 730800 w 1008000"/>
              <a:gd name="textAreaTop" fmla="*/ 28800 h 216000"/>
              <a:gd name="textAreaBottom" fmla="*/ 1872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AutoShape 111"/>
          <p:cNvSpPr/>
          <p:nvPr/>
        </p:nvSpPr>
        <p:spPr>
          <a:xfrm rot="21318600">
            <a:off x="5003280" y="691920"/>
            <a:ext cx="1008360" cy="215640"/>
          </a:xfrm>
          <a:custGeom>
            <a:avLst/>
            <a:gdLst>
              <a:gd name="textAreaLeft" fmla="*/ 176400 w 1008360"/>
              <a:gd name="textAreaRight" fmla="*/ 731160 w 1008360"/>
              <a:gd name="textAreaTop" fmla="*/ 28800 h 215640"/>
              <a:gd name="textAreaBottom" fmla="*/ 186840 h 215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AutoShape 112"/>
          <p:cNvSpPr/>
          <p:nvPr/>
        </p:nvSpPr>
        <p:spPr>
          <a:xfrm>
            <a:off x="5003640" y="1484280"/>
            <a:ext cx="505080" cy="576360"/>
          </a:xfrm>
          <a:prstGeom prst="lightningBol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AutoShape 113"/>
          <p:cNvSpPr/>
          <p:nvPr/>
        </p:nvSpPr>
        <p:spPr>
          <a:xfrm rot="982200">
            <a:off x="3924360" y="1484280"/>
            <a:ext cx="431640" cy="865080"/>
          </a:xfrm>
          <a:prstGeom prst="lightningBol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114"/>
          <p:cNvSpPr/>
          <p:nvPr/>
        </p:nvSpPr>
        <p:spPr>
          <a:xfrm>
            <a:off x="9144000" y="2852640"/>
            <a:ext cx="0" cy="4005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Freeform 115"/>
          <p:cNvSpPr/>
          <p:nvPr/>
        </p:nvSpPr>
        <p:spPr>
          <a:xfrm>
            <a:off x="166680" y="1844640"/>
            <a:ext cx="9158400" cy="5113440"/>
          </a:xfrm>
          <a:custGeom>
            <a:avLst/>
            <a:gdLst>
              <a:gd name="textAreaLeft" fmla="*/ 0 w 9158400"/>
              <a:gd name="textAreaRight" fmla="*/ 9158760 w 9158400"/>
              <a:gd name="textAreaTop" fmla="*/ 0 h 5113440"/>
              <a:gd name="textAreaBottom" fmla="*/ 5113800 h 5113440"/>
            </a:gdLst>
            <a:ahLst/>
            <a:rect l="textAreaLeft" t="textAreaTop" r="textAreaRight" b="textAreaBottom"/>
            <a:pathLst>
              <a:path w="5769" h="3097">
                <a:moveTo>
                  <a:pt x="14" y="3040"/>
                </a:moveTo>
                <a:cubicBezTo>
                  <a:pt x="14" y="3040"/>
                  <a:pt x="9" y="3003"/>
                  <a:pt x="7" y="2984"/>
                </a:cubicBezTo>
                <a:cubicBezTo>
                  <a:pt x="5" y="2873"/>
                  <a:pt x="0" y="2762"/>
                  <a:pt x="0" y="2651"/>
                </a:cubicBezTo>
                <a:cubicBezTo>
                  <a:pt x="0" y="2589"/>
                  <a:pt x="17" y="2652"/>
                  <a:pt x="0" y="2602"/>
                </a:cubicBezTo>
                <a:cubicBezTo>
                  <a:pt x="5" y="2486"/>
                  <a:pt x="5" y="2370"/>
                  <a:pt x="14" y="2255"/>
                </a:cubicBezTo>
                <a:cubicBezTo>
                  <a:pt x="15" y="2239"/>
                  <a:pt x="41" y="2194"/>
                  <a:pt x="56" y="2186"/>
                </a:cubicBezTo>
                <a:cubicBezTo>
                  <a:pt x="69" y="2179"/>
                  <a:pt x="97" y="2172"/>
                  <a:pt x="97" y="2172"/>
                </a:cubicBezTo>
                <a:cubicBezTo>
                  <a:pt x="222" y="2174"/>
                  <a:pt x="347" y="2175"/>
                  <a:pt x="472" y="2179"/>
                </a:cubicBezTo>
                <a:cubicBezTo>
                  <a:pt x="550" y="2182"/>
                  <a:pt x="619" y="2219"/>
                  <a:pt x="701" y="2221"/>
                </a:cubicBezTo>
                <a:cubicBezTo>
                  <a:pt x="895" y="2227"/>
                  <a:pt x="1090" y="2226"/>
                  <a:pt x="1284" y="2228"/>
                </a:cubicBezTo>
                <a:cubicBezTo>
                  <a:pt x="1399" y="2247"/>
                  <a:pt x="1749" y="2239"/>
                  <a:pt x="1902" y="2172"/>
                </a:cubicBezTo>
                <a:cubicBezTo>
                  <a:pt x="1959" y="2147"/>
                  <a:pt x="2013" y="2108"/>
                  <a:pt x="2075" y="2096"/>
                </a:cubicBezTo>
                <a:cubicBezTo>
                  <a:pt x="2227" y="2065"/>
                  <a:pt x="2385" y="2085"/>
                  <a:pt x="2540" y="2082"/>
                </a:cubicBezTo>
                <a:cubicBezTo>
                  <a:pt x="2606" y="2033"/>
                  <a:pt x="2574" y="2049"/>
                  <a:pt x="2630" y="2026"/>
                </a:cubicBezTo>
                <a:cubicBezTo>
                  <a:pt x="2662" y="1995"/>
                  <a:pt x="2696" y="1968"/>
                  <a:pt x="2727" y="1936"/>
                </a:cubicBezTo>
                <a:cubicBezTo>
                  <a:pt x="2729" y="1929"/>
                  <a:pt x="2729" y="1920"/>
                  <a:pt x="2734" y="1915"/>
                </a:cubicBezTo>
                <a:cubicBezTo>
                  <a:pt x="2748" y="1901"/>
                  <a:pt x="2783" y="1881"/>
                  <a:pt x="2783" y="1881"/>
                </a:cubicBezTo>
                <a:cubicBezTo>
                  <a:pt x="2805" y="1848"/>
                  <a:pt x="2819" y="1820"/>
                  <a:pt x="2852" y="1797"/>
                </a:cubicBezTo>
                <a:cubicBezTo>
                  <a:pt x="2897" y="1765"/>
                  <a:pt x="2960" y="1754"/>
                  <a:pt x="3012" y="1742"/>
                </a:cubicBezTo>
                <a:cubicBezTo>
                  <a:pt x="3168" y="1707"/>
                  <a:pt x="3332" y="1718"/>
                  <a:pt x="3491" y="1700"/>
                </a:cubicBezTo>
                <a:cubicBezTo>
                  <a:pt x="3517" y="1694"/>
                  <a:pt x="3541" y="1685"/>
                  <a:pt x="3567" y="1679"/>
                </a:cubicBezTo>
                <a:cubicBezTo>
                  <a:pt x="3622" y="1645"/>
                  <a:pt x="3676" y="1611"/>
                  <a:pt x="3734" y="1582"/>
                </a:cubicBezTo>
                <a:cubicBezTo>
                  <a:pt x="3788" y="1500"/>
                  <a:pt x="4023" y="1535"/>
                  <a:pt x="4053" y="1534"/>
                </a:cubicBezTo>
                <a:cubicBezTo>
                  <a:pt x="4132" y="1475"/>
                  <a:pt x="4157" y="1367"/>
                  <a:pt x="4226" y="1298"/>
                </a:cubicBezTo>
                <a:cubicBezTo>
                  <a:pt x="4244" y="1245"/>
                  <a:pt x="4248" y="1190"/>
                  <a:pt x="4282" y="1145"/>
                </a:cubicBezTo>
                <a:cubicBezTo>
                  <a:pt x="4316" y="1009"/>
                  <a:pt x="4365" y="879"/>
                  <a:pt x="4428" y="756"/>
                </a:cubicBezTo>
                <a:cubicBezTo>
                  <a:pt x="4446" y="720"/>
                  <a:pt x="4444" y="705"/>
                  <a:pt x="4469" y="666"/>
                </a:cubicBezTo>
                <a:cubicBezTo>
                  <a:pt x="4480" y="623"/>
                  <a:pt x="4504" y="593"/>
                  <a:pt x="4525" y="555"/>
                </a:cubicBezTo>
                <a:cubicBezTo>
                  <a:pt x="4536" y="535"/>
                  <a:pt x="4542" y="503"/>
                  <a:pt x="4559" y="486"/>
                </a:cubicBezTo>
                <a:cubicBezTo>
                  <a:pt x="4567" y="478"/>
                  <a:pt x="4579" y="473"/>
                  <a:pt x="4587" y="465"/>
                </a:cubicBezTo>
                <a:cubicBezTo>
                  <a:pt x="4612" y="440"/>
                  <a:pt x="4626" y="415"/>
                  <a:pt x="4657" y="396"/>
                </a:cubicBezTo>
                <a:cubicBezTo>
                  <a:pt x="4667" y="357"/>
                  <a:pt x="4695" y="345"/>
                  <a:pt x="4719" y="312"/>
                </a:cubicBezTo>
                <a:cubicBezTo>
                  <a:pt x="4754" y="265"/>
                  <a:pt x="4772" y="209"/>
                  <a:pt x="4816" y="167"/>
                </a:cubicBezTo>
                <a:cubicBezTo>
                  <a:pt x="4828" y="132"/>
                  <a:pt x="4841" y="118"/>
                  <a:pt x="4865" y="90"/>
                </a:cubicBezTo>
                <a:cubicBezTo>
                  <a:pt x="4917" y="27"/>
                  <a:pt x="4915" y="16"/>
                  <a:pt x="4997" y="0"/>
                </a:cubicBezTo>
                <a:cubicBezTo>
                  <a:pt x="5015" y="2"/>
                  <a:pt x="5035" y="1"/>
                  <a:pt x="5052" y="7"/>
                </a:cubicBezTo>
                <a:cubicBezTo>
                  <a:pt x="5068" y="13"/>
                  <a:pt x="5094" y="35"/>
                  <a:pt x="5094" y="35"/>
                </a:cubicBezTo>
                <a:cubicBezTo>
                  <a:pt x="5111" y="59"/>
                  <a:pt x="5143" y="95"/>
                  <a:pt x="5170" y="104"/>
                </a:cubicBezTo>
                <a:cubicBezTo>
                  <a:pt x="5175" y="111"/>
                  <a:pt x="5178" y="119"/>
                  <a:pt x="5184" y="125"/>
                </a:cubicBezTo>
                <a:cubicBezTo>
                  <a:pt x="5192" y="133"/>
                  <a:pt x="5205" y="136"/>
                  <a:pt x="5212" y="146"/>
                </a:cubicBezTo>
                <a:cubicBezTo>
                  <a:pt x="5220" y="158"/>
                  <a:pt x="5221" y="173"/>
                  <a:pt x="5226" y="187"/>
                </a:cubicBezTo>
                <a:cubicBezTo>
                  <a:pt x="5245" y="242"/>
                  <a:pt x="5302" y="314"/>
                  <a:pt x="5358" y="333"/>
                </a:cubicBezTo>
                <a:cubicBezTo>
                  <a:pt x="5389" y="357"/>
                  <a:pt x="5383" y="369"/>
                  <a:pt x="5413" y="389"/>
                </a:cubicBezTo>
                <a:cubicBezTo>
                  <a:pt x="5458" y="451"/>
                  <a:pt x="5437" y="421"/>
                  <a:pt x="5476" y="479"/>
                </a:cubicBezTo>
                <a:cubicBezTo>
                  <a:pt x="5528" y="557"/>
                  <a:pt x="5452" y="479"/>
                  <a:pt x="5510" y="534"/>
                </a:cubicBezTo>
                <a:cubicBezTo>
                  <a:pt x="5527" y="584"/>
                  <a:pt x="5503" y="524"/>
                  <a:pt x="5538" y="576"/>
                </a:cubicBezTo>
                <a:cubicBezTo>
                  <a:pt x="5547" y="589"/>
                  <a:pt x="5550" y="605"/>
                  <a:pt x="5559" y="618"/>
                </a:cubicBezTo>
                <a:cubicBezTo>
                  <a:pt x="5569" y="655"/>
                  <a:pt x="5593" y="733"/>
                  <a:pt x="5614" y="763"/>
                </a:cubicBezTo>
                <a:cubicBezTo>
                  <a:pt x="5623" y="799"/>
                  <a:pt x="5642" y="832"/>
                  <a:pt x="5656" y="867"/>
                </a:cubicBezTo>
                <a:cubicBezTo>
                  <a:pt x="5667" y="895"/>
                  <a:pt x="5667" y="919"/>
                  <a:pt x="5684" y="944"/>
                </a:cubicBezTo>
                <a:cubicBezTo>
                  <a:pt x="5703" y="1034"/>
                  <a:pt x="5704" y="1128"/>
                  <a:pt x="5739" y="1214"/>
                </a:cubicBezTo>
                <a:cubicBezTo>
                  <a:pt x="5769" y="1422"/>
                  <a:pt x="5767" y="2892"/>
                  <a:pt x="5746" y="3060"/>
                </a:cubicBezTo>
                <a:cubicBezTo>
                  <a:pt x="5741" y="3097"/>
                  <a:pt x="5672" y="3065"/>
                  <a:pt x="5635" y="3067"/>
                </a:cubicBezTo>
                <a:cubicBezTo>
                  <a:pt x="5584" y="3070"/>
                  <a:pt x="5533" y="3072"/>
                  <a:pt x="5482" y="3074"/>
                </a:cubicBezTo>
                <a:cubicBezTo>
                  <a:pt x="4108" y="3069"/>
                  <a:pt x="2779" y="3051"/>
                  <a:pt x="1402" y="3047"/>
                </a:cubicBezTo>
                <a:cubicBezTo>
                  <a:pt x="1176" y="3043"/>
                  <a:pt x="981" y="3032"/>
                  <a:pt x="763" y="3012"/>
                </a:cubicBezTo>
                <a:cubicBezTo>
                  <a:pt x="520" y="3014"/>
                  <a:pt x="278" y="3012"/>
                  <a:pt x="35" y="3019"/>
                </a:cubicBezTo>
                <a:cubicBezTo>
                  <a:pt x="12" y="3020"/>
                  <a:pt x="14" y="3029"/>
                  <a:pt x="14" y="3040"/>
                </a:cubicBezTo>
                <a:close/>
              </a:path>
            </a:pathLst>
          </a:custGeom>
          <a:solidFill>
            <a:srgbClr val="996633"/>
          </a:solidFill>
          <a:ln w="6336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Freeform 116"/>
          <p:cNvSpPr/>
          <p:nvPr/>
        </p:nvSpPr>
        <p:spPr>
          <a:xfrm>
            <a:off x="7272360" y="1700280"/>
            <a:ext cx="1871640" cy="1530360"/>
          </a:xfrm>
          <a:custGeom>
            <a:avLst/>
            <a:gdLst>
              <a:gd name="textAreaLeft" fmla="*/ 0 w 1871640"/>
              <a:gd name="textAreaRight" fmla="*/ 1872000 w 1871640"/>
              <a:gd name="textAreaTop" fmla="*/ 0 h 1530360"/>
              <a:gd name="textAreaBottom" fmla="*/ 1530720 h 1530360"/>
            </a:gdLst>
            <a:ahLst/>
            <a:rect l="textAreaLeft" t="textAreaTop" r="textAreaRight" b="textAreaBottom"/>
            <a:pathLst>
              <a:path w="1138" h="918">
                <a:moveTo>
                  <a:pt x="28" y="591"/>
                </a:moveTo>
                <a:cubicBezTo>
                  <a:pt x="53" y="555"/>
                  <a:pt x="69" y="528"/>
                  <a:pt x="83" y="487"/>
                </a:cubicBezTo>
                <a:cubicBezTo>
                  <a:pt x="87" y="475"/>
                  <a:pt x="106" y="478"/>
                  <a:pt x="118" y="473"/>
                </a:cubicBezTo>
                <a:cubicBezTo>
                  <a:pt x="135" y="449"/>
                  <a:pt x="150" y="448"/>
                  <a:pt x="173" y="432"/>
                </a:cubicBezTo>
                <a:cubicBezTo>
                  <a:pt x="180" y="411"/>
                  <a:pt x="182" y="387"/>
                  <a:pt x="194" y="369"/>
                </a:cubicBezTo>
                <a:cubicBezTo>
                  <a:pt x="207" y="350"/>
                  <a:pt x="242" y="311"/>
                  <a:pt x="250" y="286"/>
                </a:cubicBezTo>
                <a:cubicBezTo>
                  <a:pt x="266" y="239"/>
                  <a:pt x="276" y="197"/>
                  <a:pt x="319" y="168"/>
                </a:cubicBezTo>
                <a:cubicBezTo>
                  <a:pt x="329" y="138"/>
                  <a:pt x="349" y="129"/>
                  <a:pt x="375" y="113"/>
                </a:cubicBezTo>
                <a:cubicBezTo>
                  <a:pt x="397" y="47"/>
                  <a:pt x="408" y="40"/>
                  <a:pt x="479" y="22"/>
                </a:cubicBezTo>
                <a:cubicBezTo>
                  <a:pt x="514" y="0"/>
                  <a:pt x="527" y="2"/>
                  <a:pt x="569" y="9"/>
                </a:cubicBezTo>
                <a:cubicBezTo>
                  <a:pt x="581" y="44"/>
                  <a:pt x="582" y="66"/>
                  <a:pt x="618" y="78"/>
                </a:cubicBezTo>
                <a:cubicBezTo>
                  <a:pt x="631" y="87"/>
                  <a:pt x="647" y="89"/>
                  <a:pt x="659" y="99"/>
                </a:cubicBezTo>
                <a:cubicBezTo>
                  <a:pt x="666" y="104"/>
                  <a:pt x="667" y="115"/>
                  <a:pt x="673" y="120"/>
                </a:cubicBezTo>
                <a:cubicBezTo>
                  <a:pt x="686" y="131"/>
                  <a:pt x="715" y="147"/>
                  <a:pt x="715" y="147"/>
                </a:cubicBezTo>
                <a:cubicBezTo>
                  <a:pt x="748" y="196"/>
                  <a:pt x="734" y="175"/>
                  <a:pt x="756" y="210"/>
                </a:cubicBezTo>
                <a:cubicBezTo>
                  <a:pt x="772" y="237"/>
                  <a:pt x="764" y="279"/>
                  <a:pt x="791" y="300"/>
                </a:cubicBezTo>
                <a:cubicBezTo>
                  <a:pt x="797" y="305"/>
                  <a:pt x="805" y="304"/>
                  <a:pt x="812" y="307"/>
                </a:cubicBezTo>
                <a:cubicBezTo>
                  <a:pt x="840" y="321"/>
                  <a:pt x="869" y="331"/>
                  <a:pt x="895" y="349"/>
                </a:cubicBezTo>
                <a:cubicBezTo>
                  <a:pt x="912" y="397"/>
                  <a:pt x="930" y="438"/>
                  <a:pt x="958" y="480"/>
                </a:cubicBezTo>
                <a:cubicBezTo>
                  <a:pt x="963" y="488"/>
                  <a:pt x="976" y="485"/>
                  <a:pt x="985" y="487"/>
                </a:cubicBezTo>
                <a:cubicBezTo>
                  <a:pt x="995" y="518"/>
                  <a:pt x="1011" y="548"/>
                  <a:pt x="1034" y="571"/>
                </a:cubicBezTo>
                <a:cubicBezTo>
                  <a:pt x="1051" y="620"/>
                  <a:pt x="1040" y="600"/>
                  <a:pt x="1062" y="633"/>
                </a:cubicBezTo>
                <a:cubicBezTo>
                  <a:pt x="1074" y="682"/>
                  <a:pt x="1080" y="731"/>
                  <a:pt x="1096" y="779"/>
                </a:cubicBezTo>
                <a:cubicBezTo>
                  <a:pt x="1100" y="793"/>
                  <a:pt x="1102" y="808"/>
                  <a:pt x="1110" y="820"/>
                </a:cubicBezTo>
                <a:cubicBezTo>
                  <a:pt x="1119" y="834"/>
                  <a:pt x="1138" y="862"/>
                  <a:pt x="1138" y="862"/>
                </a:cubicBezTo>
                <a:cubicBezTo>
                  <a:pt x="1136" y="878"/>
                  <a:pt x="1138" y="896"/>
                  <a:pt x="1131" y="911"/>
                </a:cubicBezTo>
                <a:cubicBezTo>
                  <a:pt x="1128" y="918"/>
                  <a:pt x="1117" y="918"/>
                  <a:pt x="1110" y="918"/>
                </a:cubicBezTo>
                <a:cubicBezTo>
                  <a:pt x="1085" y="918"/>
                  <a:pt x="1033" y="892"/>
                  <a:pt x="1006" y="883"/>
                </a:cubicBezTo>
                <a:cubicBezTo>
                  <a:pt x="970" y="774"/>
                  <a:pt x="909" y="780"/>
                  <a:pt x="812" y="772"/>
                </a:cubicBezTo>
                <a:cubicBezTo>
                  <a:pt x="776" y="736"/>
                  <a:pt x="801" y="764"/>
                  <a:pt x="763" y="709"/>
                </a:cubicBezTo>
                <a:cubicBezTo>
                  <a:pt x="757" y="700"/>
                  <a:pt x="743" y="682"/>
                  <a:pt x="743" y="682"/>
                </a:cubicBezTo>
                <a:cubicBezTo>
                  <a:pt x="732" y="638"/>
                  <a:pt x="728" y="594"/>
                  <a:pt x="680" y="578"/>
                </a:cubicBezTo>
                <a:cubicBezTo>
                  <a:pt x="669" y="593"/>
                  <a:pt x="665" y="613"/>
                  <a:pt x="652" y="626"/>
                </a:cubicBezTo>
                <a:cubicBezTo>
                  <a:pt x="640" y="638"/>
                  <a:pt x="620" y="639"/>
                  <a:pt x="604" y="647"/>
                </a:cubicBezTo>
                <a:cubicBezTo>
                  <a:pt x="590" y="668"/>
                  <a:pt x="583" y="688"/>
                  <a:pt x="569" y="709"/>
                </a:cubicBezTo>
                <a:cubicBezTo>
                  <a:pt x="571" y="730"/>
                  <a:pt x="570" y="752"/>
                  <a:pt x="576" y="772"/>
                </a:cubicBezTo>
                <a:cubicBezTo>
                  <a:pt x="579" y="783"/>
                  <a:pt x="597" y="788"/>
                  <a:pt x="597" y="800"/>
                </a:cubicBezTo>
                <a:cubicBezTo>
                  <a:pt x="597" y="807"/>
                  <a:pt x="583" y="794"/>
                  <a:pt x="576" y="793"/>
                </a:cubicBezTo>
                <a:cubicBezTo>
                  <a:pt x="523" y="787"/>
                  <a:pt x="469" y="784"/>
                  <a:pt x="416" y="779"/>
                </a:cubicBezTo>
                <a:cubicBezTo>
                  <a:pt x="411" y="772"/>
                  <a:pt x="405" y="766"/>
                  <a:pt x="402" y="758"/>
                </a:cubicBezTo>
                <a:cubicBezTo>
                  <a:pt x="398" y="745"/>
                  <a:pt x="408" y="724"/>
                  <a:pt x="396" y="716"/>
                </a:cubicBezTo>
                <a:cubicBezTo>
                  <a:pt x="382" y="707"/>
                  <a:pt x="363" y="721"/>
                  <a:pt x="347" y="723"/>
                </a:cubicBezTo>
                <a:cubicBezTo>
                  <a:pt x="270" y="774"/>
                  <a:pt x="264" y="778"/>
                  <a:pt x="160" y="793"/>
                </a:cubicBezTo>
                <a:cubicBezTo>
                  <a:pt x="120" y="854"/>
                  <a:pt x="152" y="844"/>
                  <a:pt x="49" y="827"/>
                </a:cubicBezTo>
                <a:cubicBezTo>
                  <a:pt x="30" y="772"/>
                  <a:pt x="68" y="717"/>
                  <a:pt x="42" y="661"/>
                </a:cubicBezTo>
                <a:cubicBezTo>
                  <a:pt x="35" y="646"/>
                  <a:pt x="0" y="633"/>
                  <a:pt x="0" y="633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Freeform 117"/>
          <p:cNvSpPr/>
          <p:nvPr/>
        </p:nvSpPr>
        <p:spPr>
          <a:xfrm>
            <a:off x="-36360" y="5229360"/>
            <a:ext cx="3744720" cy="1670040"/>
          </a:xfrm>
          <a:custGeom>
            <a:avLst/>
            <a:gdLst>
              <a:gd name="textAreaLeft" fmla="*/ 0 w 3744720"/>
              <a:gd name="textAreaRight" fmla="*/ 3745080 w 3744720"/>
              <a:gd name="textAreaTop" fmla="*/ 0 h 1670040"/>
              <a:gd name="textAreaBottom" fmla="*/ 1670400 h 1670040"/>
            </a:gdLst>
            <a:ahLst/>
            <a:rect l="textAreaLeft" t="textAreaTop" r="textAreaRight" b="textAreaBottom"/>
            <a:pathLst>
              <a:path w="2283" h="1052">
                <a:moveTo>
                  <a:pt x="9" y="1025"/>
                </a:moveTo>
                <a:cubicBezTo>
                  <a:pt x="226" y="1027"/>
                  <a:pt x="444" y="1032"/>
                  <a:pt x="661" y="1032"/>
                </a:cubicBezTo>
                <a:cubicBezTo>
                  <a:pt x="1047" y="1032"/>
                  <a:pt x="1152" y="1052"/>
                  <a:pt x="1439" y="956"/>
                </a:cubicBezTo>
                <a:cubicBezTo>
                  <a:pt x="1468" y="925"/>
                  <a:pt x="1502" y="894"/>
                  <a:pt x="1543" y="880"/>
                </a:cubicBezTo>
                <a:cubicBezTo>
                  <a:pt x="1550" y="873"/>
                  <a:pt x="1556" y="865"/>
                  <a:pt x="1564" y="859"/>
                </a:cubicBezTo>
                <a:cubicBezTo>
                  <a:pt x="1570" y="855"/>
                  <a:pt x="1579" y="856"/>
                  <a:pt x="1584" y="852"/>
                </a:cubicBezTo>
                <a:cubicBezTo>
                  <a:pt x="1590" y="847"/>
                  <a:pt x="1592" y="837"/>
                  <a:pt x="1598" y="831"/>
                </a:cubicBezTo>
                <a:cubicBezTo>
                  <a:pt x="1604" y="825"/>
                  <a:pt x="1612" y="822"/>
                  <a:pt x="1619" y="817"/>
                </a:cubicBezTo>
                <a:cubicBezTo>
                  <a:pt x="1636" y="791"/>
                  <a:pt x="1689" y="740"/>
                  <a:pt x="1716" y="727"/>
                </a:cubicBezTo>
                <a:cubicBezTo>
                  <a:pt x="1725" y="699"/>
                  <a:pt x="1728" y="681"/>
                  <a:pt x="1758" y="671"/>
                </a:cubicBezTo>
                <a:cubicBezTo>
                  <a:pt x="1774" y="626"/>
                  <a:pt x="1839" y="555"/>
                  <a:pt x="1883" y="533"/>
                </a:cubicBezTo>
                <a:cubicBezTo>
                  <a:pt x="1894" y="499"/>
                  <a:pt x="1907" y="495"/>
                  <a:pt x="1931" y="470"/>
                </a:cubicBezTo>
                <a:cubicBezTo>
                  <a:pt x="1963" y="437"/>
                  <a:pt x="1989" y="398"/>
                  <a:pt x="2015" y="359"/>
                </a:cubicBezTo>
                <a:cubicBezTo>
                  <a:pt x="2036" y="327"/>
                  <a:pt x="2056" y="328"/>
                  <a:pt x="2070" y="297"/>
                </a:cubicBezTo>
                <a:cubicBezTo>
                  <a:pt x="2095" y="240"/>
                  <a:pt x="2113" y="173"/>
                  <a:pt x="2167" y="137"/>
                </a:cubicBezTo>
                <a:cubicBezTo>
                  <a:pt x="2193" y="98"/>
                  <a:pt x="2218" y="66"/>
                  <a:pt x="2264" y="54"/>
                </a:cubicBezTo>
                <a:cubicBezTo>
                  <a:pt x="2274" y="47"/>
                  <a:pt x="2283" y="19"/>
                  <a:pt x="2271" y="19"/>
                </a:cubicBezTo>
                <a:cubicBezTo>
                  <a:pt x="1725" y="10"/>
                  <a:pt x="1180" y="14"/>
                  <a:pt x="634" y="12"/>
                </a:cubicBezTo>
                <a:cubicBezTo>
                  <a:pt x="421" y="0"/>
                  <a:pt x="241" y="1"/>
                  <a:pt x="16" y="5"/>
                </a:cubicBezTo>
                <a:cubicBezTo>
                  <a:pt x="11" y="271"/>
                  <a:pt x="0" y="436"/>
                  <a:pt x="9" y="692"/>
                </a:cubicBezTo>
                <a:cubicBezTo>
                  <a:pt x="11" y="751"/>
                  <a:pt x="50" y="1025"/>
                  <a:pt x="9" y="1025"/>
                </a:cubicBez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AutoShape 118"/>
          <p:cNvSpPr/>
          <p:nvPr/>
        </p:nvSpPr>
        <p:spPr>
          <a:xfrm>
            <a:off x="324000" y="2349360"/>
            <a:ext cx="71280" cy="2664000"/>
          </a:xfrm>
          <a:prstGeom prst="upArrow">
            <a:avLst>
              <a:gd name="adj1" fmla="val 50000"/>
              <a:gd name="adj2" fmla="val 934343"/>
            </a:avLst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119"/>
          <p:cNvSpPr/>
          <p:nvPr/>
        </p:nvSpPr>
        <p:spPr>
          <a:xfrm>
            <a:off x="755640" y="2997360"/>
            <a:ext cx="71280" cy="1295280"/>
          </a:xfrm>
          <a:prstGeom prst="upArrow">
            <a:avLst>
              <a:gd name="adj1" fmla="val 50000"/>
              <a:gd name="adj2" fmla="val 454293"/>
            </a:avLst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120"/>
          <p:cNvSpPr/>
          <p:nvPr/>
        </p:nvSpPr>
        <p:spPr>
          <a:xfrm>
            <a:off x="468360" y="4797360"/>
            <a:ext cx="172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спар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121"/>
          <p:cNvSpPr/>
          <p:nvPr/>
        </p:nvSpPr>
        <p:spPr>
          <a:xfrm>
            <a:off x="0" y="1773360"/>
            <a:ext cx="255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онденсация пар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122"/>
          <p:cNvSpPr/>
          <p:nvPr/>
        </p:nvSpPr>
        <p:spPr>
          <a:xfrm>
            <a:off x="2700360" y="2421000"/>
            <a:ext cx="10080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садки 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дожд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123"/>
          <p:cNvSpPr/>
          <p:nvPr/>
        </p:nvSpPr>
        <p:spPr>
          <a:xfrm>
            <a:off x="7740720" y="404640"/>
            <a:ext cx="122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садки 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не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124"/>
          <p:cNvSpPr/>
          <p:nvPr/>
        </p:nvSpPr>
        <p:spPr>
          <a:xfrm>
            <a:off x="3851280" y="692280"/>
            <a:ext cx="86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ете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125"/>
          <p:cNvSpPr/>
          <p:nvPr/>
        </p:nvSpPr>
        <p:spPr>
          <a:xfrm>
            <a:off x="503280" y="6165720"/>
            <a:ext cx="8640720" cy="459720"/>
          </a:xfrm>
          <a:prstGeom prst="rect">
            <a:avLst/>
          </a:prstGeom>
          <a:gradFill rotWithShape="0">
            <a:gsLst>
              <a:gs pos="0">
                <a:srgbClr val="dddddd">
                  <a:alpha val="65098"/>
                </a:srgbClr>
              </a:gs>
              <a:gs pos="100000">
                <a:srgbClr val="666666">
                  <a:alpha val="24313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руговорот воды в природе – всемирный проце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AutoShape 126"/>
          <p:cNvSpPr/>
          <p:nvPr/>
        </p:nvSpPr>
        <p:spPr>
          <a:xfrm>
            <a:off x="1187280" y="3429000"/>
            <a:ext cx="71640" cy="1295280"/>
          </a:xfrm>
          <a:prstGeom prst="upArrow">
            <a:avLst>
              <a:gd name="adj1" fmla="val 50000"/>
              <a:gd name="adj2" fmla="val 452010"/>
            </a:avLst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AutoShape 127"/>
          <p:cNvSpPr/>
          <p:nvPr/>
        </p:nvSpPr>
        <p:spPr>
          <a:xfrm>
            <a:off x="2627280" y="3716280"/>
            <a:ext cx="73080" cy="1368360"/>
          </a:xfrm>
          <a:prstGeom prst="downArrow">
            <a:avLst>
              <a:gd name="adj1" fmla="val 50000"/>
              <a:gd name="adj2" fmla="val 468103"/>
            </a:avLst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128"/>
          <p:cNvSpPr/>
          <p:nvPr/>
        </p:nvSpPr>
        <p:spPr>
          <a:xfrm>
            <a:off x="2268360" y="3860640"/>
            <a:ext cx="73080" cy="1368720"/>
          </a:xfrm>
          <a:prstGeom prst="downArrow">
            <a:avLst>
              <a:gd name="adj1" fmla="val 50000"/>
              <a:gd name="adj2" fmla="val 468227"/>
            </a:avLst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AutoShape 129"/>
          <p:cNvSpPr/>
          <p:nvPr/>
        </p:nvSpPr>
        <p:spPr>
          <a:xfrm>
            <a:off x="4643280" y="3716280"/>
            <a:ext cx="73080" cy="1944720"/>
          </a:xfrm>
          <a:prstGeom prst="downArrow">
            <a:avLst>
              <a:gd name="adj1" fmla="val 50000"/>
              <a:gd name="adj2" fmla="val 665271"/>
            </a:avLst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utoShape 130"/>
          <p:cNvSpPr/>
          <p:nvPr/>
        </p:nvSpPr>
        <p:spPr>
          <a:xfrm>
            <a:off x="5435640" y="3573360"/>
            <a:ext cx="73080" cy="1511280"/>
          </a:xfrm>
          <a:prstGeom prst="downArrow">
            <a:avLst>
              <a:gd name="adj1" fmla="val 50000"/>
              <a:gd name="adj2" fmla="val 516995"/>
            </a:avLst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131"/>
          <p:cNvSpPr/>
          <p:nvPr/>
        </p:nvSpPr>
        <p:spPr>
          <a:xfrm flipH="1">
            <a:off x="7163640" y="1484280"/>
            <a:ext cx="71640" cy="936720"/>
          </a:xfrm>
          <a:prstGeom prst="downArrow">
            <a:avLst>
              <a:gd name="adj1" fmla="val 50000"/>
              <a:gd name="adj2" fmla="val 326884"/>
            </a:avLst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132"/>
          <p:cNvSpPr/>
          <p:nvPr/>
        </p:nvSpPr>
        <p:spPr>
          <a:xfrm>
            <a:off x="7667640" y="1413000"/>
            <a:ext cx="73080" cy="503280"/>
          </a:xfrm>
          <a:prstGeom prst="downArrow">
            <a:avLst>
              <a:gd name="adj1" fmla="val 50000"/>
              <a:gd name="adj2" fmla="val 172167"/>
            </a:avLst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AutoShape 133"/>
          <p:cNvSpPr/>
          <p:nvPr/>
        </p:nvSpPr>
        <p:spPr>
          <a:xfrm>
            <a:off x="6732720" y="5373720"/>
            <a:ext cx="2158920" cy="287280"/>
          </a:xfrm>
          <a:prstGeom prst="wedgeRoundRectCallout">
            <a:avLst>
              <a:gd name="adj1" fmla="val -52796"/>
              <a:gd name="adj2" fmla="val -217402"/>
              <a:gd name="adj3" fmla="val 16667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Arc 134"/>
          <p:cNvSpPr/>
          <p:nvPr/>
        </p:nvSpPr>
        <p:spPr>
          <a:xfrm flipV="1">
            <a:off x="3276720" y="2997360"/>
            <a:ext cx="4608360" cy="2808000"/>
          </a:xfrm>
          <a:custGeom>
            <a:avLst/>
            <a:gdLst>
              <a:gd name="textAreaLeft" fmla="*/ 0 w 4608360"/>
              <a:gd name="textAreaRight" fmla="*/ 4608720 w 4608360"/>
              <a:gd name="textAreaTop" fmla="*/ 360 h 2808000"/>
              <a:gd name="textAreaBottom" fmla="*/ 2808720 h 280800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25560">
            <a:solidFill>
              <a:srgbClr val="0000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135"/>
          <p:cNvSpPr/>
          <p:nvPr/>
        </p:nvSpPr>
        <p:spPr>
          <a:xfrm>
            <a:off x="6948360" y="5373720"/>
            <a:ext cx="187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одземные вод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Freeform 136"/>
          <p:cNvSpPr/>
          <p:nvPr/>
        </p:nvSpPr>
        <p:spPr>
          <a:xfrm>
            <a:off x="4427640" y="4292640"/>
            <a:ext cx="2246040" cy="777960"/>
          </a:xfrm>
          <a:custGeom>
            <a:avLst/>
            <a:gdLst>
              <a:gd name="textAreaLeft" fmla="*/ 0 w 2246040"/>
              <a:gd name="textAreaRight" fmla="*/ 2246400 w 2246040"/>
              <a:gd name="textAreaTop" fmla="*/ 0 h 777960"/>
              <a:gd name="textAreaBottom" fmla="*/ 778320 h 777960"/>
            </a:gdLst>
            <a:ahLst/>
            <a:rect l="textAreaLeft" t="textAreaTop" r="textAreaRight" b="textAreaBottom"/>
            <a:pathLst>
              <a:path w="1415" h="490">
                <a:moveTo>
                  <a:pt x="0" y="490"/>
                </a:moveTo>
                <a:cubicBezTo>
                  <a:pt x="53" y="479"/>
                  <a:pt x="82" y="443"/>
                  <a:pt x="124" y="414"/>
                </a:cubicBezTo>
                <a:cubicBezTo>
                  <a:pt x="142" y="402"/>
                  <a:pt x="173" y="400"/>
                  <a:pt x="194" y="393"/>
                </a:cubicBezTo>
                <a:cubicBezTo>
                  <a:pt x="259" y="326"/>
                  <a:pt x="216" y="352"/>
                  <a:pt x="340" y="344"/>
                </a:cubicBezTo>
                <a:cubicBezTo>
                  <a:pt x="381" y="341"/>
                  <a:pt x="423" y="339"/>
                  <a:pt x="464" y="337"/>
                </a:cubicBezTo>
                <a:cubicBezTo>
                  <a:pt x="500" y="325"/>
                  <a:pt x="576" y="317"/>
                  <a:pt x="576" y="317"/>
                </a:cubicBezTo>
                <a:cubicBezTo>
                  <a:pt x="665" y="255"/>
                  <a:pt x="547" y="332"/>
                  <a:pt x="832" y="296"/>
                </a:cubicBezTo>
                <a:cubicBezTo>
                  <a:pt x="849" y="294"/>
                  <a:pt x="857" y="270"/>
                  <a:pt x="874" y="268"/>
                </a:cubicBezTo>
                <a:cubicBezTo>
                  <a:pt x="897" y="266"/>
                  <a:pt x="920" y="263"/>
                  <a:pt x="943" y="261"/>
                </a:cubicBezTo>
                <a:cubicBezTo>
                  <a:pt x="955" y="254"/>
                  <a:pt x="968" y="250"/>
                  <a:pt x="978" y="240"/>
                </a:cubicBezTo>
                <a:cubicBezTo>
                  <a:pt x="996" y="222"/>
                  <a:pt x="996" y="186"/>
                  <a:pt x="1020" y="178"/>
                </a:cubicBezTo>
                <a:cubicBezTo>
                  <a:pt x="1058" y="165"/>
                  <a:pt x="1102" y="155"/>
                  <a:pt x="1138" y="136"/>
                </a:cubicBezTo>
                <a:cubicBezTo>
                  <a:pt x="1145" y="132"/>
                  <a:pt x="1150" y="123"/>
                  <a:pt x="1158" y="122"/>
                </a:cubicBezTo>
                <a:cubicBezTo>
                  <a:pt x="1202" y="116"/>
                  <a:pt x="1246" y="117"/>
                  <a:pt x="1290" y="115"/>
                </a:cubicBezTo>
                <a:cubicBezTo>
                  <a:pt x="1299" y="113"/>
                  <a:pt x="1310" y="114"/>
                  <a:pt x="1318" y="108"/>
                </a:cubicBezTo>
                <a:cubicBezTo>
                  <a:pt x="1330" y="99"/>
                  <a:pt x="1327" y="77"/>
                  <a:pt x="1339" y="67"/>
                </a:cubicBezTo>
                <a:cubicBezTo>
                  <a:pt x="1415" y="0"/>
                  <a:pt x="1364" y="59"/>
                  <a:pt x="1387" y="32"/>
                </a:cubicBezTo>
              </a:path>
            </a:pathLst>
          </a:custGeom>
          <a:noFill/>
          <a:ln w="19080">
            <a:solidFill>
              <a:srgbClr val="0000ff"/>
            </a:solidFill>
            <a:prstDash val="dash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AutoShape 137"/>
          <p:cNvSpPr/>
          <p:nvPr/>
        </p:nvSpPr>
        <p:spPr>
          <a:xfrm>
            <a:off x="4284720" y="4941720"/>
            <a:ext cx="216000" cy="265320"/>
          </a:xfrm>
          <a:custGeom>
            <a:avLst/>
            <a:gdLst>
              <a:gd name="textAreaLeft" fmla="*/ 88920 w 216000"/>
              <a:gd name="textAreaRight" fmla="*/ 127080 w 216000"/>
              <a:gd name="textAreaTop" fmla="*/ 109440 h 265320"/>
              <a:gd name="textAreaBottom" fmla="*/ 155880 h 265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138"/>
          <p:cNvSpPr/>
          <p:nvPr/>
        </p:nvSpPr>
        <p:spPr>
          <a:xfrm>
            <a:off x="3059280" y="4581360"/>
            <a:ext cx="1296720" cy="216000"/>
          </a:xfrm>
          <a:prstGeom prst="wedgeRoundRectCallout">
            <a:avLst>
              <a:gd name="adj1" fmla="val 42412"/>
              <a:gd name="adj2" fmla="val 150736"/>
              <a:gd name="adj3" fmla="val 16667"/>
            </a:avLst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139"/>
          <p:cNvSpPr/>
          <p:nvPr/>
        </p:nvSpPr>
        <p:spPr>
          <a:xfrm>
            <a:off x="6877080" y="4005360"/>
            <a:ext cx="1800360" cy="288720"/>
          </a:xfrm>
          <a:prstGeom prst="wedgeRoundRectCallout">
            <a:avLst>
              <a:gd name="adj1" fmla="val -99296"/>
              <a:gd name="adj2" fmla="val 180768"/>
              <a:gd name="adj3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140"/>
          <p:cNvSpPr/>
          <p:nvPr/>
        </p:nvSpPr>
        <p:spPr>
          <a:xfrm>
            <a:off x="6877080" y="4005360"/>
            <a:ext cx="187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Грунтовые вод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141"/>
          <p:cNvSpPr/>
          <p:nvPr/>
        </p:nvSpPr>
        <p:spPr>
          <a:xfrm>
            <a:off x="7885080" y="1989000"/>
            <a:ext cx="107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Ледни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142"/>
          <p:cNvSpPr/>
          <p:nvPr/>
        </p:nvSpPr>
        <p:spPr>
          <a:xfrm>
            <a:off x="3708360" y="4653000"/>
            <a:ext cx="107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одни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143"/>
          <p:cNvSpPr/>
          <p:nvPr/>
        </p:nvSpPr>
        <p:spPr>
          <a:xfrm>
            <a:off x="8783640" y="3213000"/>
            <a:ext cx="360360" cy="364500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144"/>
          <p:cNvSpPr/>
          <p:nvPr/>
        </p:nvSpPr>
        <p:spPr>
          <a:xfrm>
            <a:off x="5796000" y="3860640"/>
            <a:ext cx="8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е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145"/>
          <p:cNvSpPr/>
          <p:nvPr/>
        </p:nvSpPr>
        <p:spPr>
          <a:xfrm flipH="1">
            <a:off x="5363640" y="5300640"/>
            <a:ext cx="100836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146"/>
          <p:cNvSpPr/>
          <p:nvPr/>
        </p:nvSpPr>
        <p:spPr>
          <a:xfrm flipH="1">
            <a:off x="5579640" y="4292640"/>
            <a:ext cx="576360" cy="288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147"/>
          <p:cNvSpPr/>
          <p:nvPr/>
        </p:nvSpPr>
        <p:spPr>
          <a:xfrm flipH="1">
            <a:off x="4787640" y="4869000"/>
            <a:ext cx="647640" cy="144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148"/>
          <p:cNvSpPr/>
          <p:nvPr/>
        </p:nvSpPr>
        <p:spPr>
          <a:xfrm flipH="1">
            <a:off x="6876720" y="2852640"/>
            <a:ext cx="358920" cy="86364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AutoShape 149"/>
          <p:cNvSpPr/>
          <p:nvPr/>
        </p:nvSpPr>
        <p:spPr>
          <a:xfrm flipH="1">
            <a:off x="5002920" y="3573360"/>
            <a:ext cx="73080" cy="936720"/>
          </a:xfrm>
          <a:prstGeom prst="upArrow">
            <a:avLst>
              <a:gd name="adj1" fmla="val 50000"/>
              <a:gd name="adj2" fmla="val 320443"/>
            </a:avLst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AutoShape 150"/>
          <p:cNvSpPr/>
          <p:nvPr/>
        </p:nvSpPr>
        <p:spPr>
          <a:xfrm flipH="1">
            <a:off x="5723640" y="3357720"/>
            <a:ext cx="73080" cy="936360"/>
          </a:xfrm>
          <a:prstGeom prst="upArrow">
            <a:avLst>
              <a:gd name="adj1" fmla="val 50000"/>
              <a:gd name="adj2" fmla="val 320320"/>
            </a:avLst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151"/>
          <p:cNvSpPr/>
          <p:nvPr/>
        </p:nvSpPr>
        <p:spPr>
          <a:xfrm flipH="1" flipV="1">
            <a:off x="684360" y="115560"/>
            <a:ext cx="71280" cy="14436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152"/>
          <p:cNvSpPr/>
          <p:nvPr/>
        </p:nvSpPr>
        <p:spPr>
          <a:xfrm>
            <a:off x="971640" y="5373720"/>
            <a:ext cx="1655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dddddd"/>
                </a:solidFill>
                <a:latin typeface="Arial"/>
              </a:rPr>
              <a:t>Оке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153"/>
          <p:cNvSpPr/>
          <p:nvPr/>
        </p:nvSpPr>
        <p:spPr>
          <a:xfrm>
            <a:off x="8101080" y="4581360"/>
            <a:ext cx="1042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ddddd"/>
                </a:solidFill>
                <a:latin typeface="Arial"/>
              </a:rPr>
              <a:t>Суш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0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3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3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25" nodeType="after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050"/>
                                      </p:to>
                                    </p:animClr>
                                    <p:animClr clrSpc="rgb">
                                      <p:cBhvr>
                                        <p:cTn id="127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5050"/>
                                      </p:to>
                                    </p:animClr>
                                    <p:set>
                                      <p:cBhvr>
                                        <p:cTn id="128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30" nodeType="after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1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050"/>
                                      </p:to>
                                    </p:animClr>
                                    <p:animClr clrSpc="rgb">
                                      <p:cBhvr>
                                        <p:cTn id="132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5050"/>
                                      </p:to>
                                    </p:animClr>
                                    <p:set>
                                      <p:cBhvr>
                                        <p:cTn id="133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35" nodeType="after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6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050"/>
                                      </p:to>
                                    </p:animClr>
                                    <p:animClr clrSpc="rgb">
                                      <p:cBhvr>
                                        <p:cTn id="137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5050"/>
                                      </p:to>
                                    </p:animClr>
                                    <p:set>
                                      <p:cBhvr>
                                        <p:cTn id="138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40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42" dur="10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49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1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3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1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63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1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1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21000"/>
                            </p:stCondLst>
                            <p:childTnLst>
                              <p:par>
                                <p:cTn id="1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1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23000"/>
                            </p:stCondLst>
                            <p:childTnLst>
                              <p:par>
                                <p:cTn id="1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10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2400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25000"/>
                            </p:stCondLst>
                            <p:childTnLst>
                              <p:par>
                                <p:cTn id="1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50" autoRev="1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01" dur="250" autoRev="1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02" dur="250" autoRev="1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26000"/>
                            </p:stCondLst>
                            <p:childTnLst>
                              <p:par>
                                <p:cTn id="204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5" dur="250" autoRev="1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06" dur="250" autoRev="1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07" dur="250" autoRev="1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26500"/>
                            </p:stCondLst>
                            <p:childTnLst>
                              <p:par>
                                <p:cTn id="209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50" autoRev="1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11" dur="250" autoRev="1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12" dur="250" autoRev="1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27000"/>
                            </p:stCondLst>
                            <p:childTnLst>
                              <p:par>
                                <p:cTn id="214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5" dur="250" autoRev="1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16" dur="250" autoRev="1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17" dur="250" autoRev="1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27500"/>
                            </p:stCondLst>
                            <p:childTnLst>
                              <p:par>
                                <p:cTn id="2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27500"/>
                            </p:stCondLst>
                            <p:childTnLst>
                              <p:par>
                                <p:cTn id="2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28500"/>
                            </p:stCondLst>
                            <p:childTnLst>
                              <p:par>
                                <p:cTn id="2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29500"/>
                            </p:stCondLst>
                            <p:childTnLst>
                              <p:par>
                                <p:cTn id="233" nodeType="after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050"/>
                                      </p:to>
                                    </p:animClr>
                                    <p:animClr clrSpc="rgb">
                                      <p:cBhvr>
                                        <p:cTn id="235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5050"/>
                                      </p:to>
                                    </p:animClr>
                                    <p:set>
                                      <p:cBhvr>
                                        <p:cTn id="236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30000"/>
                            </p:stCondLst>
                            <p:childTnLst>
                              <p:par>
                                <p:cTn id="2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31000"/>
                            </p:stCondLst>
                            <p:childTnLst>
                              <p:par>
                                <p:cTn id="242" nodeType="after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3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050"/>
                                      </p:to>
                                    </p:animClr>
                                    <p:animClr clrSpc="rgb">
                                      <p:cBhvr>
                                        <p:cTn id="24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5050"/>
                                      </p:to>
                                    </p:animClr>
                                    <p:set>
                                      <p:cBhvr>
                                        <p:cTn id="24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31500"/>
                            </p:stCondLst>
                            <p:childTnLst>
                              <p:par>
                                <p:cTn id="2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51" dur="1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nodeType="afterEffect" fill="hold">
                            <p:stCondLst>
                              <p:cond delay="32500"/>
                            </p:stCondLst>
                            <p:childTnLst>
                              <p:par>
                                <p:cTn id="2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335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34000"/>
                            </p:stCondLst>
                            <p:childTnLst>
                              <p:par>
                                <p:cTn id="2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3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nodeType="afterEffect" fill="hold">
                            <p:stCondLst>
                              <p:cond delay="34500"/>
                            </p:stCondLst>
                            <p:childTnLst>
                              <p:par>
                                <p:cTn id="2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7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nodeType="afterEffect" fill="hold">
                            <p:stCondLst>
                              <p:cond delay="35000"/>
                            </p:stCondLst>
                            <p:childTnLst>
                              <p:par>
                                <p:cTn id="2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nodeType="afterEffect" fill="hold">
                            <p:stCondLst>
                              <p:cond delay="35500"/>
                            </p:stCondLst>
                            <p:childTnLst>
                              <p:par>
                                <p:cTn id="2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nodeType="afterEffect" fill="hold">
                            <p:stCondLst>
                              <p:cond delay="36000"/>
                            </p:stCondLst>
                            <p:childTnLst>
                              <p:par>
                                <p:cTn id="2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9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36500"/>
                            </p:stCondLst>
                            <p:childTnLst>
                              <p:par>
                                <p:cTn id="2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3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37000"/>
                            </p:stCondLst>
                            <p:childTnLst>
                              <p:par>
                                <p:cTn id="2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7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nodeType="afterEffect" fill="hold">
                            <p:stCondLst>
                              <p:cond delay="37500"/>
                            </p:stCondLst>
                            <p:childTnLst>
                              <p:par>
                                <p:cTn id="2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38000"/>
                            </p:stCondLst>
                            <p:childTnLst>
                              <p:par>
                                <p:cTn id="2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nodeType="afterEffect" fill="hold">
                            <p:stCondLst>
                              <p:cond delay="38500"/>
                            </p:stCondLst>
                            <p:childTnLst>
                              <p:par>
                                <p:cTn id="2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9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nodeType="afterEffect" fill="hold">
                            <p:stCondLst>
                              <p:cond delay="39000"/>
                            </p:stCondLst>
                            <p:childTnLst>
                              <p:par>
                                <p:cTn id="30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3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nodeType="afterEffect" fill="hold">
                            <p:stCondLst>
                              <p:cond delay="39500"/>
                            </p:stCondLst>
                            <p:childTnLst>
                              <p:par>
                                <p:cTn id="3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nodeType="afterEffect" fill="hold">
                            <p:stCondLst>
                              <p:cond delay="40000"/>
                            </p:stCondLst>
                            <p:childTnLst>
                              <p:par>
                                <p:cTn id="30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1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nodeType="afterEffect" fill="hold">
                            <p:stCondLst>
                              <p:cond delay="40500"/>
                            </p:stCondLst>
                            <p:childTnLst>
                              <p:par>
                                <p:cTn id="3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5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nodeType="afterEffect" fill="hold">
                            <p:stCondLst>
                              <p:cond delay="41000"/>
                            </p:stCondLst>
                            <p:childTnLst>
                              <p:par>
                                <p:cTn id="3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9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41500"/>
                            </p:stCondLst>
                            <p:childTnLst>
                              <p:par>
                                <p:cTn id="3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3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nodeType="afterEffect" fill="hold">
                            <p:stCondLst>
                              <p:cond delay="42000"/>
                            </p:stCondLst>
                            <p:childTnLst>
                              <p:par>
                                <p:cTn id="3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nodeType="afterEffect" fill="hold">
                            <p:stCondLst>
                              <p:cond delay="43000"/>
                            </p:stCondLst>
                            <p:childTnLst>
                              <p:par>
                                <p:cTn id="3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4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nodeType="afterEffect" fill="hold">
                            <p:stCondLst>
                              <p:cond delay="44000"/>
                            </p:stCondLst>
                            <p:childTnLst>
                              <p:par>
                                <p:cTn id="336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38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nodeType="afterEffect" fill="hold">
                            <p:stCondLst>
                              <p:cond delay="4600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5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8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nodeType="afterEffect" fill="hold">
                            <p:stCondLst>
                              <p:cond delay="47000"/>
                            </p:stCondLst>
                            <p:childTnLst>
                              <p:par>
                                <p:cTn id="35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2" dur="3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5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8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nodeType="afterEffect" fill="hold">
                            <p:stCondLst>
                              <p:cond delay="50000"/>
                            </p:stCondLst>
                            <p:childTnLst>
                              <p:par>
                                <p:cTn id="36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nodeType="afterEffect" fill="hold">
                            <p:stCondLst>
                              <p:cond delay="51000"/>
                            </p:stCondLst>
                            <p:childTnLst>
                              <p:par>
                                <p:cTn id="366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67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nodeType="afterEffect" fill="hold">
                            <p:stCondLst>
                              <p:cond delay="52000"/>
                            </p:stCondLst>
                            <p:childTnLst>
                              <p:par>
                                <p:cTn id="3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1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nodeType="afterEffect" fill="hold">
                            <p:stCondLst>
                              <p:cond delay="53000"/>
                            </p:stCondLst>
                            <p:childTnLst>
                              <p:par>
                                <p:cTn id="37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5" dur="3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8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1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6000"/>
                            </p:stCondLst>
                            <p:childTnLst>
                              <p:par>
                                <p:cTn id="386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88" dur="3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Хоть в это поверить не очень легко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Но Волги вода есть  в реке Лимпопо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И, путешествуя облаком пар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Воды из Волги текут в Ниагар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Волги вода и в Байкале, и в Нил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И в Танганьике и в вашей квартир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Значит, должны понимать это все м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Реки – часть водной единой систем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Но, чтобы не быть с географией в споре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Волга впадает в Каспийское мор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                                        </a:t>
            </a: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И. Яким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10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898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1000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898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1000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898" fill="hold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1000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898" fill="hold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1000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898" fill="hold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1000"/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898" fill="hold"/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1000"/>
                                        <p:tgtEl>
                                          <p:spTgt spid="2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2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898" fill="hold"/>
                                        <p:tgtEl>
                                          <p:spTgt spid="2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1000"/>
                                        <p:tgtEl>
                                          <p:spTgt spid="2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2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898" fill="hold"/>
                                        <p:tgtEl>
                                          <p:spTgt spid="2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1000"/>
                                        <p:tgtEl>
                                          <p:spTgt spid="2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2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898" fill="hold"/>
                                        <p:tgtEl>
                                          <p:spTgt spid="2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1000"/>
                                        <p:tgtEl>
                                          <p:spTgt spid="2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2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898" fill="hold"/>
                                        <p:tgtEl>
                                          <p:spTgt spid="2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1000"/>
                                        <p:tgtEl>
                                          <p:spTgt spid="2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2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898" fill="hold"/>
                                        <p:tgtEl>
                                          <p:spTgt spid="2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68360" y="1196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акое значение имеет круговорот воды в природ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subTitle"/>
          </p:nvPr>
        </p:nvSpPr>
        <p:spPr>
          <a:xfrm>
            <a:off x="611280" y="4436640"/>
            <a:ext cx="82087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. Перенос тепла и влаги на сушу и обратно – с суши на океан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2. Перенос тепла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3. Обмен вещест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5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0" dur="20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Время, за которое происходит обновление вод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организме несколько час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атмосфере – 8 сут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реках 12-14 сут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проточных озерах – несколько л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Мировом океане – 200-300 л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полярных ледниках – 8000-15000 л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подземных водах – сотни тысяч л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то происходит с водой, выпавшей в виде осадков на сушу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ими путями вода с суши возвращается в океан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ие явления круговорота воды можно наблюдать в Вашей местност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ое значение имеет мировой круговорот воды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руговорот воды связал между собой литосферу, атмосферу и гидросферу. Докажите это утвержде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то нового для себя Вы узнали на сегодняшнем урок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одумай и ответь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ое значение имеет вода для жизни на Земле? В жизни планет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каких агрегатных состояниях может находиться вода на Земл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ими свойствами обладает вод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омашнее зада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24000" y="278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odoni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doni MT"/>
              </a:rPr>
              <a:t>В тетради составить схему «Строение гидросферы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odoni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doni MT"/>
              </a:rPr>
              <a:t>В словарь выписать определения: гидросфера, круговорот вод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odoni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doni MT"/>
              </a:rPr>
              <a:t>Составить рассказ «Путешествие капельки воды» или «Вода путешественница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4"/>
          <p:cNvSpPr/>
          <p:nvPr/>
        </p:nvSpPr>
        <p:spPr>
          <a:xfrm>
            <a:off x="2484360" y="1987920"/>
            <a:ext cx="561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Я и туча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 туман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И ручей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 океан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Я летаю, и бегу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 стеклянной быть могу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Georgia"/>
              </a:rPr>
              <a:t>Вода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8T13:20:59Z</dcterms:created>
  <dc:creator>пользователь</dc:creator>
  <dc:description/>
  <dc:language>en-US</dc:language>
  <cp:lastModifiedBy>Ольга</cp:lastModifiedBy>
  <dcterms:modified xsi:type="dcterms:W3CDTF">2016-12-23T08:12:17Z</dcterms:modified>
  <cp:revision>7</cp:revision>
  <dc:subject/>
  <dc:title>Слайд 1</dc:title>
</cp:coreProperties>
</file>