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jpeg" ContentType="image/jpeg"/>
  <Override PartName="/ppt/media/image16.jpeg" ContentType="image/jpe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AC30-C06B-4D8A-BB6C-DD9E9F647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6880-D616-4A00-A60A-0AB99CCF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ED07-5F7D-4F83-BA96-14A2944F5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7370-09A3-40F5-8215-B4648EC37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F9656-7851-4785-8185-BC551C293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DFF8B-EABB-4650-B84A-170C6708B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45CD3-ED7B-4154-8CC2-38C4BC9F1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349AC-2859-46A5-BA8E-A56BEAAC9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86F9A-0A42-4207-8C3C-17C6F79EC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8A8C1-46F6-4F32-BD6A-A10ECD2E6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6E4A4-5ECE-4702-83D3-D55946C4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6730-78CC-4A8F-8D2F-A3EAA00CE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BBB5E-B407-4D56-8159-F74862E9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32D5D-3D39-431E-9A33-FBEA89E0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E8485-30E4-492B-B084-F5BE478A2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87237-3262-4B9A-B078-35BE81286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48B22-E19B-4F8F-B280-C3D8E142A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57DC5-9DD4-480F-A1F9-DFE33EE68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B19ED-FB59-407D-93CC-1A5533EBB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847D6-7E7B-4582-A003-2A498FD63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7BB17-1FBD-47CF-AFD5-BF163B155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90292-2096-4ED8-ABED-408AEDA7B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1FD1-B83D-4CEB-B720-30C4EE066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B284A-22ED-4F56-9847-F3E80B123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D4D1A-A781-43A4-836F-4FB84E79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DC72B-B218-4A48-9E02-BF7431D0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4B05B-63B4-4153-A5FD-00BA06E2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84E4E-B634-44BF-833A-4E1FCE06E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9DD3F-7FA6-44D8-B102-E10EFC7A5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DFC4E-516B-449A-A485-7541FC726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B5D78-84EC-493F-9309-3E57533E8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A580A-E839-4D2F-8555-4B4C2F4BD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44727-CE76-43D8-BFF3-A48C79D9E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7DE5-3B23-4E5B-A387-0DCBD9E24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B9B20-6F7F-43D0-8E01-55A55B80B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86134-A75F-490F-8BEA-8F70DC8C5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688E7-29C5-4517-911A-099BC0E7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99519-E194-48E5-B717-2DA5ADB2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B5E7D-AAD3-42D0-9AE0-EBAFE661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7FA6E-2502-4155-853A-1DB398D5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40695-1AB6-4B8D-96EF-7C9D3FBC7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170F2-D8FD-42EB-B2FA-D383BF0FD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8BADB-5F0C-4178-9401-5A1B6FD2A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F781-E407-4BF7-92D6-666033664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8E50-8C4B-436F-A4DC-BC05E4CD6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EA08-3DC3-4C90-801E-5DA09109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817D-F60F-4FF7-9206-EBF51CCB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C4CB-98A1-4FE3-85FD-29A0AF8E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19A36-CAE0-4891-AFF6-A8D35DCBBF1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3A264-CC4C-4C46-870D-0A9A6C8BFE5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14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66A58-D7C4-4B73-86D6-C5B3213D7C7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64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27B10-397D-43F6-A7BD-44E7882E24E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fotki.yandex.ru/users/valent20082008/view/50799/?page=0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fotki.yandex.ru/users/valent20082008/view/50799/?page=0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relef.ru/data/catalog/products/121104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g12.nnm.ru/0/3/6/5/6/03656d11aa0199a967aa267a67844f6c_full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"/>
          <p:cNvPicPr/>
          <p:nvPr/>
        </p:nvPicPr>
        <p:blipFill>
          <a:blip r:embed="rId1"/>
          <a:srcRect l="0" t="21467" r="753" b="2329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 txBox="1"/>
          <p:nvPr/>
        </p:nvSpPr>
        <p:spPr>
          <a:xfrm>
            <a:off x="4228920" y="2405160"/>
            <a:ext cx="439884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Урок 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русского языка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2" name="Picture 2" descr="http://img-fotki.yandex.ru/get/24/valent20082008.5/0_c655_96dd74ed_-2-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94000" y="1706400"/>
            <a:ext cx="2090520" cy="308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98600" cy="29052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2590920" y="1676520"/>
            <a:ext cx="3771720" cy="21193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6613560" y="3886200"/>
            <a:ext cx="23893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533160" y="609480"/>
            <a:ext cx="3927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Берёза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Лопата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Тетради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29200" y="609120"/>
            <a:ext cx="3124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Берё</a:t>
            </a:r>
            <a:r>
              <a:rPr b="1" i="1" lang="en-US" sz="4000" spc="-1" strike="noStrike">
                <a:solidFill>
                  <a:srgbClr val="cc3300"/>
                </a:solidFill>
                <a:latin typeface="Verdana"/>
              </a:rPr>
              <a:t>з</a:t>
            </a: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ка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Лопа</a:t>
            </a:r>
            <a:r>
              <a:rPr b="1" i="1" lang="en-US" sz="4000" spc="-1" strike="noStrike">
                <a:solidFill>
                  <a:srgbClr val="cc3300"/>
                </a:solidFill>
                <a:latin typeface="Verdana"/>
              </a:rPr>
              <a:t>т</a:t>
            </a: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ка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тетра</a:t>
            </a:r>
            <a:r>
              <a:rPr b="1" i="1" lang="en-US" sz="4000" spc="-1" strike="noStrike">
                <a:solidFill>
                  <a:srgbClr val="cc3300"/>
                </a:solidFill>
                <a:latin typeface="Verdana"/>
              </a:rPr>
              <a:t>д</a:t>
            </a: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ка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763120" cy="657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"/>
          <p:cNvPicPr/>
          <p:nvPr/>
        </p:nvPicPr>
        <p:blipFill>
          <a:blip r:embed="rId1"/>
          <a:srcRect l="0" t="21467" r="753" b="2329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4228920" y="2405160"/>
            <a:ext cx="439884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Урок 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русского языка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68" name="Picture 2" descr="http://img-fotki.yandex.ru/get/24/valent20082008.5/0_c655_96dd74ed_-2-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94000" y="1706400"/>
            <a:ext cx="2090520" cy="308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285480" y="1143000"/>
            <a:ext cx="24001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лов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глад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близ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рез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лёг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креп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гиб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роб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слад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0" name="TextBox 4"/>
          <p:cNvSpPr/>
          <p:nvPr/>
        </p:nvSpPr>
        <p:spPr>
          <a:xfrm>
            <a:off x="6072120" y="1143000"/>
            <a:ext cx="271476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ги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ро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кре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ло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сла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лё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гла -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бли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ре -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Прямоугольник 3"/>
          <p:cNvSpPr/>
          <p:nvPr/>
        </p:nvSpPr>
        <p:spPr>
          <a:xfrm>
            <a:off x="-104760" y="142920"/>
            <a:ext cx="36493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aeaea"/>
                </a:solidFill>
                <a:latin typeface="Franklin Gothic Book"/>
              </a:rPr>
              <a:t>Работа в парах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</p:txBody>
      </p:sp>
      <p:cxnSp>
        <p:nvCxnSpPr>
          <p:cNvPr id="272" name="Прямая со стрелкой 6"/>
          <p:cNvCxnSpPr/>
          <p:nvPr/>
        </p:nvCxnSpPr>
        <p:spPr>
          <a:xfrm flipH="1" flipV="1">
            <a:off x="1571040" y="1428480"/>
            <a:ext cx="4429800" cy="171504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73" name="Прямая со стрелкой 9"/>
          <p:cNvCxnSpPr/>
          <p:nvPr/>
        </p:nvCxnSpPr>
        <p:spPr>
          <a:xfrm flipH="1" flipV="1">
            <a:off x="1785600" y="1999440"/>
            <a:ext cx="4215600" cy="2786760"/>
          </a:xfrm>
          <a:prstGeom prst="straightConnector1">
            <a:avLst/>
          </a:prstGeom>
          <a:ln w="3492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274" name="Прямая со стрелкой 11"/>
          <p:cNvCxnSpPr/>
          <p:nvPr/>
        </p:nvCxnSpPr>
        <p:spPr>
          <a:xfrm flipH="1" flipV="1">
            <a:off x="1928520" y="2571480"/>
            <a:ext cx="4001040" cy="2715120"/>
          </a:xfrm>
          <a:prstGeom prst="straightConnector1">
            <a:avLst/>
          </a:prstGeom>
          <a:ln w="3492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275" name="Прямая со стрелкой 13"/>
          <p:cNvCxnSpPr/>
          <p:nvPr/>
        </p:nvCxnSpPr>
        <p:spPr>
          <a:xfrm flipH="1" flipV="1">
            <a:off x="1714320" y="3142440"/>
            <a:ext cx="4214880" cy="2786760"/>
          </a:xfrm>
          <a:prstGeom prst="straightConnector1">
            <a:avLst/>
          </a:prstGeom>
          <a:ln w="3492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276" name="Прямая со стрелкой 15"/>
          <p:cNvCxnSpPr/>
          <p:nvPr/>
        </p:nvCxnSpPr>
        <p:spPr>
          <a:xfrm flipH="1" flipV="1">
            <a:off x="1714320" y="3642480"/>
            <a:ext cx="4143600" cy="500760"/>
          </a:xfrm>
          <a:prstGeom prst="straightConnector1">
            <a:avLst/>
          </a:prstGeom>
          <a:ln w="34920">
            <a:solidFill>
              <a:srgbClr val="006600"/>
            </a:solidFill>
            <a:miter/>
            <a:tailEnd len="med" type="arrow" w="med"/>
          </a:ln>
        </p:spPr>
      </p:cxnSp>
      <p:cxnSp>
        <p:nvCxnSpPr>
          <p:cNvPr id="277" name="Прямая со стрелкой 17"/>
          <p:cNvCxnSpPr/>
          <p:nvPr/>
        </p:nvCxnSpPr>
        <p:spPr>
          <a:xfrm flipH="1">
            <a:off x="1928160" y="3643200"/>
            <a:ext cx="4072680" cy="2286720"/>
          </a:xfrm>
          <a:prstGeom prst="straightConnector1">
            <a:avLst/>
          </a:prstGeom>
          <a:ln w="34920">
            <a:solidFill>
              <a:srgbClr val="ff3399"/>
            </a:solidFill>
            <a:miter/>
            <a:tailEnd len="med" type="arrow" w="med"/>
          </a:ln>
        </p:spPr>
      </p:cxnSp>
      <p:cxnSp>
        <p:nvCxnSpPr>
          <p:cNvPr id="278" name="Прямая со стрелкой 19"/>
          <p:cNvCxnSpPr/>
          <p:nvPr/>
        </p:nvCxnSpPr>
        <p:spPr>
          <a:xfrm flipH="1">
            <a:off x="1571400" y="1427760"/>
            <a:ext cx="4572720" cy="3429720"/>
          </a:xfrm>
          <a:prstGeom prst="straightConnector1">
            <a:avLst/>
          </a:prstGeom>
          <a:ln w="3492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279" name="Прямая со стрелкой 21"/>
          <p:cNvCxnSpPr/>
          <p:nvPr/>
        </p:nvCxnSpPr>
        <p:spPr>
          <a:xfrm flipH="1">
            <a:off x="1714320" y="2071800"/>
            <a:ext cx="4358160" cy="3286800"/>
          </a:xfrm>
          <a:prstGeom prst="straightConnector1">
            <a:avLst/>
          </a:prstGeom>
          <a:ln w="3492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80" name="Прямая со стрелкой 24"/>
          <p:cNvCxnSpPr/>
          <p:nvPr/>
        </p:nvCxnSpPr>
        <p:spPr>
          <a:xfrm flipH="1">
            <a:off x="1928520" y="2571840"/>
            <a:ext cx="4143600" cy="1643760"/>
          </a:xfrm>
          <a:prstGeom prst="straightConnector1">
            <a:avLst/>
          </a:prstGeom>
          <a:ln w="34920">
            <a:solidFill>
              <a:srgbClr val="eaeaea"/>
            </a:solidFill>
            <a:miter/>
            <a:tailEnd len="med" type="arrow" w="med"/>
          </a:ln>
        </p:spPr>
      </p:cxnSp>
      <p:sp>
        <p:nvSpPr>
          <p:cNvPr id="281" name="TextBox 36"/>
          <p:cNvSpPr/>
          <p:nvPr/>
        </p:nvSpPr>
        <p:spPr>
          <a:xfrm>
            <a:off x="6572160" y="928800"/>
            <a:ext cx="5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Franklin Gothic Book"/>
              </a:rPr>
              <a:t>б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TextBox 37"/>
          <p:cNvSpPr/>
          <p:nvPr/>
        </p:nvSpPr>
        <p:spPr>
          <a:xfrm>
            <a:off x="6643800" y="1509840"/>
            <a:ext cx="71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Franklin Gothic Book"/>
              </a:rPr>
              <a:t>б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3" name="TextBox 38"/>
          <p:cNvSpPr/>
          <p:nvPr/>
        </p:nvSpPr>
        <p:spPr>
          <a:xfrm>
            <a:off x="6858000" y="192888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п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4" name="TextBox 39"/>
          <p:cNvSpPr/>
          <p:nvPr/>
        </p:nvSpPr>
        <p:spPr>
          <a:xfrm>
            <a:off x="6858000" y="300024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д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5" name="TextBox 40"/>
          <p:cNvSpPr/>
          <p:nvPr/>
        </p:nvSpPr>
        <p:spPr>
          <a:xfrm>
            <a:off x="6715080" y="371952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г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TextBox 41"/>
          <p:cNvSpPr/>
          <p:nvPr/>
        </p:nvSpPr>
        <p:spPr>
          <a:xfrm>
            <a:off x="6715080" y="421956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д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TextBox 42"/>
          <p:cNvSpPr/>
          <p:nvPr/>
        </p:nvSpPr>
        <p:spPr>
          <a:xfrm>
            <a:off x="6858000" y="479124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з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TextBox 43"/>
          <p:cNvSpPr/>
          <p:nvPr/>
        </p:nvSpPr>
        <p:spPr>
          <a:xfrm>
            <a:off x="6572160" y="536256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з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9" name="TextBox 44"/>
          <p:cNvSpPr/>
          <p:nvPr/>
        </p:nvSpPr>
        <p:spPr>
          <a:xfrm>
            <a:off x="6572160" y="257652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в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2000" fill="hold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2000" fill="hold"/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Выноска-облако 5"/>
          <p:cNvSpPr/>
          <p:nvPr/>
        </p:nvSpPr>
        <p:spPr>
          <a:xfrm flipH="1">
            <a:off x="178560" y="476280"/>
            <a:ext cx="5357880" cy="1214280"/>
          </a:xfrm>
          <a:prstGeom prst="cloudCallout">
            <a:avLst>
              <a:gd name="adj1" fmla="val -61879"/>
              <a:gd name="adj2" fmla="val 24375"/>
            </a:avLst>
          </a:prstGeom>
          <a:solidFill>
            <a:srgbClr val="c6d9f1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БЕРИ СИНОНИМ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TextBox 6"/>
          <p:cNvSpPr/>
          <p:nvPr/>
        </p:nvSpPr>
        <p:spPr>
          <a:xfrm>
            <a:off x="571680" y="2357280"/>
            <a:ext cx="2786040" cy="28371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варищ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ник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а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х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шебник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2" name="TextBox 7"/>
          <p:cNvSpPr/>
          <p:nvPr/>
        </p:nvSpPr>
        <p:spPr>
          <a:xfrm>
            <a:off x="6072120" y="2357280"/>
            <a:ext cx="2286000" cy="28371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о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д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г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г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г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у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г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cxnSp>
        <p:nvCxnSpPr>
          <p:cNvPr id="293" name="Прямая со стрелкой 9"/>
          <p:cNvCxnSpPr/>
          <p:nvPr/>
        </p:nvCxnSpPr>
        <p:spPr>
          <a:xfrm>
            <a:off x="2857320" y="2714400"/>
            <a:ext cx="3858120" cy="57204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arrow" w="med"/>
          </a:ln>
        </p:spPr>
      </p:cxnSp>
      <p:cxnSp>
        <p:nvCxnSpPr>
          <p:cNvPr id="294" name="Прямая со стрелкой 10"/>
          <p:cNvCxnSpPr/>
          <p:nvPr/>
        </p:nvCxnSpPr>
        <p:spPr>
          <a:xfrm>
            <a:off x="3000240" y="3286080"/>
            <a:ext cx="3858480" cy="57240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arrow" w="med"/>
          </a:ln>
        </p:spPr>
      </p:cxnSp>
      <p:cxnSp>
        <p:nvCxnSpPr>
          <p:cNvPr id="295" name="Прямая со стрелкой 11"/>
          <p:cNvCxnSpPr/>
          <p:nvPr/>
        </p:nvCxnSpPr>
        <p:spPr>
          <a:xfrm flipV="1">
            <a:off x="2714760" y="2714040"/>
            <a:ext cx="3929760" cy="114372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arrow" w="med"/>
          </a:ln>
        </p:spPr>
      </p:cxnSp>
      <p:cxnSp>
        <p:nvCxnSpPr>
          <p:cNvPr id="296" name="Прямая со стрелкой 13"/>
          <p:cNvCxnSpPr/>
          <p:nvPr/>
        </p:nvCxnSpPr>
        <p:spPr>
          <a:xfrm>
            <a:off x="2500200" y="4357440"/>
            <a:ext cx="3858480" cy="57204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arrow" w="med"/>
          </a:ln>
        </p:spPr>
      </p:cxnSp>
      <p:cxnSp>
        <p:nvCxnSpPr>
          <p:cNvPr id="297" name="Прямая со стрелкой 14"/>
          <p:cNvCxnSpPr/>
          <p:nvPr/>
        </p:nvCxnSpPr>
        <p:spPr>
          <a:xfrm flipV="1">
            <a:off x="3000240" y="4357080"/>
            <a:ext cx="3929760" cy="57204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arrow" w="med"/>
          </a:ln>
        </p:spPr>
      </p:cxnSp>
      <p:pic>
        <p:nvPicPr>
          <p:cNvPr id="298" name="" descr="Картинка 27 из 8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0360" y="260280"/>
            <a:ext cx="2970360" cy="199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http://img11.proshkolu.ru/content/media/pic/std/5000000/4248000/4247742-511b9dca956ff2f7.jpg"/>
          <p:cNvPicPr/>
          <p:nvPr/>
        </p:nvPicPr>
        <p:blipFill>
          <a:blip r:embed="rId1"/>
          <a:stretch/>
        </p:blipFill>
        <p:spPr>
          <a:xfrm>
            <a:off x="11160" y="0"/>
            <a:ext cx="9144000" cy="68724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4" descr=""/>
          <p:cNvPicPr/>
          <p:nvPr/>
        </p:nvPicPr>
        <p:blipFill>
          <a:blip r:embed="rId2"/>
          <a:stretch/>
        </p:blipFill>
        <p:spPr>
          <a:xfrm>
            <a:off x="3508200" y="0"/>
            <a:ext cx="2143440" cy="21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path" presetID="1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1.94444E-006 -0.06564 C 0.23455 -0.06564 0.42552 0.12456 0.42552 0.35983 C 0.42552 0.5944 0.23455 0.78622 1.94444E-006 0.78622 C -0.23455 0.78622 -0.425 0.5944 -0.425 0.35983 C -0.425 0.12456 -0.23455 -0.06564 1.94444E-006 -0.06564 Z">
                                      <p:cBhvr>
                                        <p:cTn id="395" dur="10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path" presetID="3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1.66667E-006 -0.06563 L 0.47726 0.3113 L 0.03437 0.76011 L -0.4441 0.37971 L 1.66667E-006 -0.06563 Z">
                                      <p:cBhvr>
                                        <p:cTn id="399" dur="10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path" presetID="55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1.38889E-006 -0.06563 C -0.27031 -0.08135 -0.50312 0.09244 -0.51927 0.32239 C -0.54045 0.54264 -0.35833 0.74902 -0.09722 0.76288 C 0.14549 0.77698 0.37014 0.63624 0.38507 0.42963 C 0.39462 0.23989 0.24913 0.06078 0.02396 0.04784 C -0.18212 0.0342 -0.3743 0.15392 -0.39097 0.32886 C -0.40312 0.49133 -0.2783 0.64294 -0.08802 0.65334 C 0.08108 0.66258 0.24566 0.56667 0.25347 0.42339 C 0.26597 0.29119 0.16875 0.16755 0.0158 0.15761 C -0.12083 0.15184 -0.25469 0.22371 -0.26215 0.33626 C -0.26996 0.43656 -0.19774 0.53547 -0.0809 0.54264 C 0.01997 0.5498 0.11563 0.49804 0.12448 0.41507 C 0.13299 0.34666 0.0882 0.27317 0.00799 0.27086 C -0.05642 0.26415 -0.12604 0.29166 -0.13333 0.34342 C -0.13298 0.38502 -0.11614 0.42593 -0.07361 0.43286 C -0.04496 0.43656 -0.01545 0.4294 -0.00347 0.40952 C -1.38889000000008E-006 0.39866 -0.00069 0.39149 -0.00347 0.38017 E">
                                      <p:cBhvr>
                                        <p:cTn id="403" dur="10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Самостоятельная работ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Verdana"/>
              </a:rPr>
              <a:t>А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–задание лёгкое, на знание и применение правил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Б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–задания, где надо подумать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С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- творческое задани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Самопроверк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2627280" y="2854440"/>
          <a:ext cx="4038480" cy="3017520"/>
        </p:xfrm>
        <a:graphic>
          <a:graphicData uri="http://schemas.openxmlformats.org/drawingml/2006/table">
            <a:tbl>
              <a:tblPr/>
              <a:tblGrid>
                <a:gridCol w="380880"/>
                <a:gridCol w="382680"/>
                <a:gridCol w="425520"/>
                <a:gridCol w="507960"/>
                <a:gridCol w="509400"/>
                <a:gridCol w="468360"/>
                <a:gridCol w="423720"/>
                <a:gridCol w="424080"/>
                <a:gridCol w="5158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В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В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В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http://img11.proshkolu.ru/content/media/pic/std/5000000/4248000/4247742-511b9dca956ff2f7.jpg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2040"/>
          </a:xfrm>
          <a:prstGeom prst="rect">
            <a:avLst/>
          </a:prstGeom>
          <a:ln w="0">
            <a:noFill/>
          </a:ln>
        </p:spPr>
      </p:pic>
      <p:grpSp>
        <p:nvGrpSpPr>
          <p:cNvPr id="306" name="Скругленный прямоугольник 2"/>
          <p:cNvGrpSpPr/>
          <p:nvPr/>
        </p:nvGrpSpPr>
        <p:grpSpPr>
          <a:xfrm>
            <a:off x="1663560" y="590400"/>
            <a:ext cx="5456520" cy="989280"/>
            <a:chOff x="1663560" y="590400"/>
            <a:chExt cx="5456520" cy="989280"/>
          </a:xfrm>
        </p:grpSpPr>
        <p:pic>
          <p:nvPicPr>
            <p:cNvPr id="307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1663560" y="590400"/>
              <a:ext cx="5456520" cy="98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1741320" y="666720"/>
              <a:ext cx="530892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Задачи  урока</a:t>
              </a:r>
              <a:endParaRPr b="0" lang="en-US" sz="4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09" name="Скругленный прямоугольник 4"/>
          <p:cNvGrpSpPr/>
          <p:nvPr/>
        </p:nvGrpSpPr>
        <p:grpSpPr>
          <a:xfrm>
            <a:off x="1646280" y="1962000"/>
            <a:ext cx="5456160" cy="1030320"/>
            <a:chOff x="1646280" y="1962000"/>
            <a:chExt cx="5456160" cy="1030320"/>
          </a:xfrm>
        </p:grpSpPr>
        <p:pic>
          <p:nvPicPr>
            <p:cNvPr id="310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1646280" y="1962000"/>
              <a:ext cx="545616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1722600" y="2039760"/>
              <a:ext cx="5305320" cy="8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Учиться  находить в корне слова парную согласную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12" name="Скругленный прямоугольник 5"/>
          <p:cNvGrpSpPr/>
          <p:nvPr/>
        </p:nvGrpSpPr>
        <p:grpSpPr>
          <a:xfrm>
            <a:off x="1646280" y="3371760"/>
            <a:ext cx="5456160" cy="1017720"/>
            <a:chOff x="1646280" y="3371760"/>
            <a:chExt cx="5456160" cy="1017720"/>
          </a:xfrm>
        </p:grpSpPr>
        <p:pic>
          <p:nvPicPr>
            <p:cNvPr id="313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1646280" y="3371760"/>
              <a:ext cx="545616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1722600" y="3449520"/>
              <a:ext cx="5305320" cy="86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Различать проверочные и проверяемые слова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15" name="Скругленный прямоугольник 6"/>
          <p:cNvGrpSpPr/>
          <p:nvPr/>
        </p:nvGrpSpPr>
        <p:grpSpPr>
          <a:xfrm>
            <a:off x="1646280" y="4761000"/>
            <a:ext cx="5456160" cy="993600"/>
            <a:chOff x="1646280" y="4761000"/>
            <a:chExt cx="5456160" cy="993600"/>
          </a:xfrm>
        </p:grpSpPr>
        <p:pic>
          <p:nvPicPr>
            <p:cNvPr id="316" name="Скругленный прямоугольник 6" descr=""/>
            <p:cNvPicPr/>
            <p:nvPr/>
          </p:nvPicPr>
          <p:blipFill>
            <a:blip r:embed="rId5"/>
            <a:stretch/>
          </p:blipFill>
          <p:spPr>
            <a:xfrm>
              <a:off x="1646280" y="4761000"/>
              <a:ext cx="545616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1720800" y="4840200"/>
              <a:ext cx="530856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Правильно подбирать проверочное слово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Картинка 19 из 2665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762120"/>
            <a:ext cx="7308720" cy="548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http://img11.proshkolu.ru/content/media/pic/std/5000000/4248000/4247742-511b9dca956ff2f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319" name="Овал 2"/>
          <p:cNvSpPr/>
          <p:nvPr/>
        </p:nvSpPr>
        <p:spPr>
          <a:xfrm>
            <a:off x="1403280" y="4484520"/>
            <a:ext cx="914400" cy="9144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Овал 3"/>
          <p:cNvSpPr/>
          <p:nvPr/>
        </p:nvSpPr>
        <p:spPr>
          <a:xfrm>
            <a:off x="1403280" y="2913120"/>
            <a:ext cx="914400" cy="9144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Овал 4"/>
          <p:cNvSpPr/>
          <p:nvPr/>
        </p:nvSpPr>
        <p:spPr>
          <a:xfrm>
            <a:off x="1403280" y="1341360"/>
            <a:ext cx="914400" cy="9144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322" name="Скругленный прямоугольник 5"/>
          <p:cNvGrpSpPr/>
          <p:nvPr/>
        </p:nvGrpSpPr>
        <p:grpSpPr>
          <a:xfrm>
            <a:off x="3103560" y="1523880"/>
            <a:ext cx="3436920" cy="755640"/>
            <a:chOff x="3103560" y="1523880"/>
            <a:chExt cx="3436920" cy="755640"/>
          </a:xfrm>
        </p:grpSpPr>
        <p:pic>
          <p:nvPicPr>
            <p:cNvPr id="323" name="Скругленный 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3103560" y="1523880"/>
              <a:ext cx="34369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3165480" y="1590840"/>
              <a:ext cx="331632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b050"/>
                  </a:solidFill>
                  <a:latin typeface="Times New Roman"/>
                  <a:ea typeface="Times New Roman"/>
                </a:rPr>
                <a:t>Мне  всё  понятно.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25" name="Скругленный прямоугольник 6"/>
          <p:cNvGrpSpPr/>
          <p:nvPr/>
        </p:nvGrpSpPr>
        <p:grpSpPr>
          <a:xfrm>
            <a:off x="3103560" y="2895480"/>
            <a:ext cx="5095800" cy="1067040"/>
            <a:chOff x="3103560" y="2895480"/>
            <a:chExt cx="5095800" cy="1067040"/>
          </a:xfrm>
        </p:grpSpPr>
        <p:pic>
          <p:nvPicPr>
            <p:cNvPr id="326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3103560" y="2895480"/>
              <a:ext cx="509580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3181320" y="2975040"/>
              <a:ext cx="494208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000"/>
                  </a:solidFill>
                  <a:latin typeface="Times New Roman"/>
                  <a:ea typeface="Times New Roman"/>
                </a:rPr>
                <a:t>Мне  понятно, но  надо  ещё  потренироваться</a:t>
              </a:r>
              <a:r>
                <a:rPr b="1" lang="en-US" sz="2800" spc="-1" strike="noStrike">
                  <a:solidFill>
                    <a:srgbClr val="ffc000"/>
                  </a:solidFill>
                  <a:latin typeface="Times New Roman"/>
                  <a:ea typeface="Times New Roman"/>
                </a:rPr>
                <a:t>.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28" name="Скругленный прямоугольник 7"/>
          <p:cNvGrpSpPr/>
          <p:nvPr/>
        </p:nvGrpSpPr>
        <p:grpSpPr>
          <a:xfrm>
            <a:off x="3103560" y="4572000"/>
            <a:ext cx="3724200" cy="804960"/>
            <a:chOff x="3103560" y="4572000"/>
            <a:chExt cx="3724200" cy="804960"/>
          </a:xfrm>
        </p:grpSpPr>
        <p:pic>
          <p:nvPicPr>
            <p:cNvPr id="329" name="Скругленный прямоугольник 7" descr=""/>
            <p:cNvPicPr/>
            <p:nvPr/>
          </p:nvPicPr>
          <p:blipFill>
            <a:blip r:embed="rId4"/>
            <a:stretch/>
          </p:blipFill>
          <p:spPr>
            <a:xfrm>
              <a:off x="3103560" y="4572000"/>
              <a:ext cx="372420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3168720" y="4641840"/>
              <a:ext cx="359892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Ничего  не  понятно.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0720" y="2438280"/>
            <a:ext cx="73152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Правописание парных глухих и звонких согласных в корне слова и на конце.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http://img11.proshkolu.ru/content/media/pic/std/5000000/4248000/4247742-511b9dca956ff2f7.jpg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2040"/>
          </a:xfrm>
          <a:prstGeom prst="rect">
            <a:avLst/>
          </a:prstGeom>
          <a:ln w="0">
            <a:noFill/>
          </a:ln>
        </p:spPr>
      </p:pic>
      <p:grpSp>
        <p:nvGrpSpPr>
          <p:cNvPr id="216" name="Скругленный прямоугольник 2"/>
          <p:cNvGrpSpPr/>
          <p:nvPr/>
        </p:nvGrpSpPr>
        <p:grpSpPr>
          <a:xfrm>
            <a:off x="1663560" y="590400"/>
            <a:ext cx="5456520" cy="989280"/>
            <a:chOff x="1663560" y="590400"/>
            <a:chExt cx="5456520" cy="989280"/>
          </a:xfrm>
        </p:grpSpPr>
        <p:pic>
          <p:nvPicPr>
            <p:cNvPr id="217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1663560" y="590400"/>
              <a:ext cx="5456520" cy="98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1741320" y="666720"/>
              <a:ext cx="530892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Задачи  урока</a:t>
              </a:r>
              <a:endParaRPr b="0" lang="en-US" sz="4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19" name="Скругленный прямоугольник 4"/>
          <p:cNvGrpSpPr/>
          <p:nvPr/>
        </p:nvGrpSpPr>
        <p:grpSpPr>
          <a:xfrm>
            <a:off x="1646280" y="1962000"/>
            <a:ext cx="5456160" cy="1030320"/>
            <a:chOff x="1646280" y="1962000"/>
            <a:chExt cx="5456160" cy="1030320"/>
          </a:xfrm>
        </p:grpSpPr>
        <p:pic>
          <p:nvPicPr>
            <p:cNvPr id="220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1646280" y="1962000"/>
              <a:ext cx="545616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722600" y="2039760"/>
              <a:ext cx="5305320" cy="8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Учиться  находить в корне слова парную согласную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22" name="Скругленный прямоугольник 5"/>
          <p:cNvGrpSpPr/>
          <p:nvPr/>
        </p:nvGrpSpPr>
        <p:grpSpPr>
          <a:xfrm>
            <a:off x="1646280" y="3371760"/>
            <a:ext cx="5456160" cy="1017720"/>
            <a:chOff x="1646280" y="3371760"/>
            <a:chExt cx="5456160" cy="1017720"/>
          </a:xfrm>
        </p:grpSpPr>
        <p:pic>
          <p:nvPicPr>
            <p:cNvPr id="223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1646280" y="3371760"/>
              <a:ext cx="545616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1722600" y="3449520"/>
              <a:ext cx="5305320" cy="86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Различать проверочные и проверяемые слова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25" name="Скругленный прямоугольник 6"/>
          <p:cNvGrpSpPr/>
          <p:nvPr/>
        </p:nvGrpSpPr>
        <p:grpSpPr>
          <a:xfrm>
            <a:off x="1646280" y="4761000"/>
            <a:ext cx="5456160" cy="993600"/>
            <a:chOff x="1646280" y="4761000"/>
            <a:chExt cx="5456160" cy="993600"/>
          </a:xfrm>
        </p:grpSpPr>
        <p:pic>
          <p:nvPicPr>
            <p:cNvPr id="226" name="Скругленный прямоугольник 6" descr=""/>
            <p:cNvPicPr/>
            <p:nvPr/>
          </p:nvPicPr>
          <p:blipFill>
            <a:blip r:embed="rId5"/>
            <a:stretch/>
          </p:blipFill>
          <p:spPr>
            <a:xfrm>
              <a:off x="1646280" y="4761000"/>
              <a:ext cx="545616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1720800" y="4840200"/>
              <a:ext cx="530856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Правильно подбирать проверочное слово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Расшифруйте слов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конпка              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жолка               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тарква              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Расшифруйте слов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Unicode MS"/>
              </a:rPr>
              <a:t>    </a:t>
            </a:r>
            <a:r>
              <a:rPr b="0" lang="en-US" sz="4400" spc="-1" strike="noStrike">
                <a:solidFill>
                  <a:srgbClr val="eaeaea"/>
                </a:solidFill>
                <a:latin typeface="Arial Unicode MS"/>
              </a:rPr>
              <a:t>кнопка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Unicode MS"/>
              </a:rPr>
              <a:t>    </a:t>
            </a:r>
            <a:r>
              <a:rPr b="0" lang="en-US" sz="4400" spc="-1" strike="noStrike">
                <a:solidFill>
                  <a:srgbClr val="eaeaea"/>
                </a:solidFill>
                <a:latin typeface="Arial Unicode MS"/>
              </a:rPr>
              <a:t>ложка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Unicode MS"/>
              </a:rPr>
              <a:t>    </a:t>
            </a:r>
            <a:r>
              <a:rPr b="0" lang="en-US" sz="4400" spc="-1" strike="noStrike">
                <a:solidFill>
                  <a:srgbClr val="eaeaea"/>
                </a:solidFill>
                <a:latin typeface="Arial Unicode MS"/>
              </a:rPr>
              <a:t>травка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rcRect l="0" t="16159" r="0" b="18204"/>
          <a:stretch/>
        </p:blipFill>
        <p:spPr>
          <a:xfrm>
            <a:off x="0" y="698400"/>
            <a:ext cx="9144000" cy="6159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214200" y="-4320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Verdana"/>
              </a:rPr>
              <a:t>Минутка чистописания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2"/>
          <a:srcRect l="69100" t="63002" r="25695" b="26151"/>
          <a:stretch/>
        </p:blipFill>
        <p:spPr>
          <a:xfrm>
            <a:off x="3643200" y="5214960"/>
            <a:ext cx="428760" cy="7142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"/>
          <p:cNvPicPr/>
          <p:nvPr/>
        </p:nvPicPr>
        <p:blipFill>
          <a:blip r:embed="rId3"/>
          <a:srcRect l="69100" t="63002" r="25695" b="26151"/>
          <a:stretch/>
        </p:blipFill>
        <p:spPr>
          <a:xfrm>
            <a:off x="4071960" y="5214960"/>
            <a:ext cx="428760" cy="7142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"/>
          <p:cNvPicPr/>
          <p:nvPr/>
        </p:nvPicPr>
        <p:blipFill>
          <a:blip r:embed="rId4"/>
          <a:srcRect l="69100" t="63002" r="25695" b="26151"/>
          <a:stretch/>
        </p:blipFill>
        <p:spPr>
          <a:xfrm>
            <a:off x="4500720" y="5214960"/>
            <a:ext cx="428400" cy="7142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" descr=""/>
          <p:cNvPicPr/>
          <p:nvPr/>
        </p:nvPicPr>
        <p:blipFill>
          <a:blip r:embed="rId5"/>
          <a:srcRect l="69100" t="63002" r="25695" b="26151"/>
          <a:stretch/>
        </p:blipFill>
        <p:spPr>
          <a:xfrm>
            <a:off x="4929120" y="5214960"/>
            <a:ext cx="428760" cy="7142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"/>
          <p:cNvPicPr/>
          <p:nvPr/>
        </p:nvPicPr>
        <p:blipFill>
          <a:blip r:embed="rId6"/>
          <a:srcRect l="69100" t="63002" r="25695" b="26151"/>
          <a:stretch/>
        </p:blipFill>
        <p:spPr>
          <a:xfrm>
            <a:off x="5429160" y="5214960"/>
            <a:ext cx="428760" cy="7142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"/>
          <p:cNvPicPr/>
          <p:nvPr/>
        </p:nvPicPr>
        <p:blipFill>
          <a:blip r:embed="rId7"/>
          <a:srcRect l="69100" t="63002" r="25695" b="26151"/>
          <a:stretch/>
        </p:blipFill>
        <p:spPr>
          <a:xfrm>
            <a:off x="5857920" y="5214960"/>
            <a:ext cx="428760" cy="7142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"/>
          <p:cNvPicPr/>
          <p:nvPr/>
        </p:nvPicPr>
        <p:blipFill>
          <a:blip r:embed="rId8"/>
          <a:srcRect l="39815" t="63526" r="55136" b="25431"/>
          <a:stretch/>
        </p:blipFill>
        <p:spPr>
          <a:xfrm>
            <a:off x="3664080" y="5214960"/>
            <a:ext cx="407880" cy="7142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"/>
          <p:cNvPicPr/>
          <p:nvPr/>
        </p:nvPicPr>
        <p:blipFill>
          <a:blip r:embed="rId9"/>
          <a:srcRect l="43314" t="65109" r="50058" b="26605"/>
          <a:stretch/>
        </p:blipFill>
        <p:spPr>
          <a:xfrm>
            <a:off x="4000680" y="528624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"/>
          <p:cNvPicPr/>
          <p:nvPr/>
        </p:nvPicPr>
        <p:blipFill>
          <a:blip r:embed="rId10"/>
          <a:srcRect l="49119" t="64072" r="45082" b="26605"/>
          <a:stretch/>
        </p:blipFill>
        <p:spPr>
          <a:xfrm>
            <a:off x="4500720" y="5214960"/>
            <a:ext cx="500040" cy="6429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"/>
          <p:cNvPicPr/>
          <p:nvPr/>
        </p:nvPicPr>
        <p:blipFill>
          <a:blip r:embed="rId11"/>
          <a:srcRect l="54091" t="64072" r="41766" b="26605"/>
          <a:stretch/>
        </p:blipFill>
        <p:spPr>
          <a:xfrm>
            <a:off x="5000760" y="5214960"/>
            <a:ext cx="357120" cy="6429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" descr=""/>
          <p:cNvPicPr/>
          <p:nvPr/>
        </p:nvPicPr>
        <p:blipFill>
          <a:blip r:embed="rId12"/>
          <a:srcRect l="58237" t="64072" r="35137" b="26605"/>
          <a:stretch/>
        </p:blipFill>
        <p:spPr>
          <a:xfrm>
            <a:off x="5286240" y="5214960"/>
            <a:ext cx="571680" cy="6429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" descr=""/>
          <p:cNvPicPr/>
          <p:nvPr/>
        </p:nvPicPr>
        <p:blipFill>
          <a:blip r:embed="rId13"/>
          <a:srcRect l="64065" t="64290" r="30469" b="27339"/>
          <a:stretch/>
        </p:blipFill>
        <p:spPr>
          <a:xfrm>
            <a:off x="5786280" y="5072040"/>
            <a:ext cx="500400" cy="78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http://img11.proshkolu.ru/content/media/pic/std/5000000/4248000/4247742-511b9dca956ff2f7.jpg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724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http://www.xn--90abiba9a8ae4b.xn--p1ai/upload/catalog/%D0%94%D0%B0%D1%80%D0%BD%D0%B8%D1%86%D0%BA%D0%B8%D0%B9-5.jpg"/>
          <p:cNvPicPr/>
          <p:nvPr/>
        </p:nvPicPr>
        <p:blipFill>
          <a:blip r:embed="rId2"/>
          <a:stretch/>
        </p:blipFill>
        <p:spPr>
          <a:xfrm>
            <a:off x="1116000" y="1141560"/>
            <a:ext cx="1623960" cy="15760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"/>
          <p:cNvPicPr/>
          <p:nvPr/>
        </p:nvPicPr>
        <p:blipFill>
          <a:blip r:embed="rId3"/>
          <a:stretch/>
        </p:blipFill>
        <p:spPr>
          <a:xfrm>
            <a:off x="5565600" y="1033560"/>
            <a:ext cx="2240280" cy="17938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"/>
          <p:cNvPicPr/>
          <p:nvPr/>
        </p:nvPicPr>
        <p:blipFill>
          <a:blip r:embed="rId4"/>
          <a:stretch/>
        </p:blipFill>
        <p:spPr>
          <a:xfrm>
            <a:off x="3338640" y="1141560"/>
            <a:ext cx="2226960" cy="1668240"/>
          </a:xfrm>
          <a:prstGeom prst="rect">
            <a:avLst/>
          </a:prstGeom>
          <a:ln w="0">
            <a:noFill/>
          </a:ln>
        </p:spPr>
      </p:pic>
      <p:sp>
        <p:nvSpPr>
          <p:cNvPr id="250" name="TextBox 2"/>
          <p:cNvSpPr/>
          <p:nvPr/>
        </p:nvSpPr>
        <p:spPr>
          <a:xfrm>
            <a:off x="1078200" y="2960640"/>
            <a:ext cx="691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Хле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б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 – хле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б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а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,  пир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г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 – пир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г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,  морк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в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ь – морк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в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Половина рамки 3"/>
          <p:cNvSpPr/>
          <p:nvPr/>
        </p:nvSpPr>
        <p:spPr>
          <a:xfrm rot="2675400">
            <a:off x="7679880" y="3571920"/>
            <a:ext cx="252360" cy="252360"/>
          </a:xfrm>
          <a:custGeom>
            <a:avLst/>
            <a:gdLst/>
            <a:ahLst/>
            <a:rect l="l" t="t" r="r" b="b"/>
            <a:pathLst>
              <a:path w="252000" h="252000">
                <a:moveTo>
                  <a:pt x="0" y="0"/>
                </a:moveTo>
                <a:lnTo>
                  <a:pt x="252000" y="0"/>
                </a:lnTo>
                <a:lnTo>
                  <a:pt x="233097" y="18903"/>
                </a:lnTo>
                <a:lnTo>
                  <a:pt x="14462" y="18903"/>
                </a:lnTo>
                <a:lnTo>
                  <a:pt x="14462" y="237538"/>
                </a:lnTo>
                <a:lnTo>
                  <a:pt x="0" y="252000"/>
                </a:lnTo>
                <a:close/>
              </a:path>
            </a:pathLst>
          </a:custGeom>
          <a:solidFill>
            <a:srgbClr val="339966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TextBox 4"/>
          <p:cNvSpPr/>
          <p:nvPr/>
        </p:nvSpPr>
        <p:spPr>
          <a:xfrm>
            <a:off x="6499080" y="3645000"/>
            <a:ext cx="17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морко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в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чк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http://img11.proshkolu.ru/content/media/pic/std/5000000/4248000/4247742-511b9dca956ff2f7.jpg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724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http://www.xn--90abiba9a8ae4b.xn--p1ai/upload/catalog/%D0%94%D0%B0%D1%80%D0%BD%D0%B8%D1%86%D0%BA%D0%B8%D0%B9-5.jpg"/>
          <p:cNvPicPr/>
          <p:nvPr/>
        </p:nvPicPr>
        <p:blipFill>
          <a:blip r:embed="rId2"/>
          <a:stretch/>
        </p:blipFill>
        <p:spPr>
          <a:xfrm>
            <a:off x="1116000" y="1141560"/>
            <a:ext cx="1623960" cy="15760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5" descr=""/>
          <p:cNvPicPr/>
          <p:nvPr/>
        </p:nvPicPr>
        <p:blipFill>
          <a:blip r:embed="rId3"/>
          <a:stretch/>
        </p:blipFill>
        <p:spPr>
          <a:xfrm>
            <a:off x="5565600" y="1033560"/>
            <a:ext cx="2240280" cy="17938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"/>
          <p:cNvPicPr/>
          <p:nvPr/>
        </p:nvPicPr>
        <p:blipFill>
          <a:blip r:embed="rId4"/>
          <a:stretch/>
        </p:blipFill>
        <p:spPr>
          <a:xfrm>
            <a:off x="3338640" y="1141560"/>
            <a:ext cx="2226960" cy="1668240"/>
          </a:xfrm>
          <a:prstGeom prst="rect">
            <a:avLst/>
          </a:prstGeom>
          <a:ln w="0">
            <a:noFill/>
          </a:ln>
        </p:spPr>
      </p:pic>
      <p:sp>
        <p:nvSpPr>
          <p:cNvPr id="257" name="TextBox 2"/>
          <p:cNvSpPr/>
          <p:nvPr/>
        </p:nvSpPr>
        <p:spPr>
          <a:xfrm>
            <a:off x="1078200" y="2960640"/>
            <a:ext cx="691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Хле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б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 – хле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б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а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,  пир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г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 – пир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г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,  морк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в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ь – морк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в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Половина рамки 3"/>
          <p:cNvSpPr/>
          <p:nvPr/>
        </p:nvSpPr>
        <p:spPr>
          <a:xfrm rot="2675400">
            <a:off x="7679880" y="3571920"/>
            <a:ext cx="252360" cy="252360"/>
          </a:xfrm>
          <a:custGeom>
            <a:avLst/>
            <a:gdLst/>
            <a:ahLst/>
            <a:rect l="l" t="t" r="r" b="b"/>
            <a:pathLst>
              <a:path w="252000" h="252000">
                <a:moveTo>
                  <a:pt x="0" y="0"/>
                </a:moveTo>
                <a:lnTo>
                  <a:pt x="252000" y="0"/>
                </a:lnTo>
                <a:lnTo>
                  <a:pt x="233097" y="18903"/>
                </a:lnTo>
                <a:lnTo>
                  <a:pt x="14462" y="18903"/>
                </a:lnTo>
                <a:lnTo>
                  <a:pt x="14462" y="237538"/>
                </a:lnTo>
                <a:lnTo>
                  <a:pt x="0" y="252000"/>
                </a:lnTo>
                <a:close/>
              </a:path>
            </a:pathLst>
          </a:custGeom>
          <a:solidFill>
            <a:srgbClr val="339966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TextBox 4"/>
          <p:cNvSpPr/>
          <p:nvPr/>
        </p:nvSpPr>
        <p:spPr>
          <a:xfrm>
            <a:off x="6499080" y="3645000"/>
            <a:ext cx="17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морко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в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чк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6-12-06T09:06:36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