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2AAD-1711-43C8-98C2-D06796AF6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8276-694C-4EE6-A873-AFF40279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D9CF-3AD9-45EB-B458-1E85E5ED2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25BA-1D99-46DD-B973-77D22D5FC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C81BA-F235-4999-8771-D3031BCED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C473-8344-49B6-BBEB-B2AC18F3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16C10-0CD1-44D3-A3EA-7BA0AE5C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D5BB-9253-47A6-A793-03F77E45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B81D8-59FA-4186-B285-6667E7B8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01B2-B6E3-4692-A497-56739A53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1730-2804-4733-8BFF-C2487D9E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0024-D2A4-414A-8B23-B2E21FE7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83AF-A03A-4BE9-B973-370E6B7F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12D9-C3CE-4395-8D1B-9B4A6021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2446A-7460-4BD6-AA30-4FF6309F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588C-358A-4319-BF01-497EB2485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4F36-E299-4264-9E6F-1D0217333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4E79BB-B0C0-4749-A800-39C384797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A92BE3-3224-464C-9993-56CD5A65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1FFADA-C7A1-4104-98C2-9F9D82E4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432235-DB58-403F-B2A6-C289B921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41343C-4533-457F-8DAD-529E1BE0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4912-7BC2-423A-AD2A-94B85770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30CF45-405C-4F6E-A996-4131D39A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6985C4-BCF9-41FD-A7A6-8497C0D0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04B764-F75B-4013-9A8A-BB7EEAA7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74AA36-1B35-4677-A5CA-2F3F32D9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C55A81-6369-4B2A-92A2-80E698EF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56D906-9A0F-46B0-B380-6839D0396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F44503-EEA1-47BC-A836-1C451FD83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2AEFA-A092-4D9F-925D-B7D49D657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FCDC3-44EE-498F-A64D-BA52CEAC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64450-4243-4603-BC98-4EC1C7A7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985A-2ACB-43FE-B8A1-E95560F5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A3458-73BE-4E2E-849D-3217BE90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2F9AA-70F4-4174-A60D-49F9FED8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93473-5BEC-4BFA-8061-291FFC0D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99513-D708-4FE3-9F3D-73A0950F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DB0A0-7965-4C54-B2F6-F9FA2D7B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5B3E8-178F-48C1-9BA7-09D37688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79123-07CB-42FC-BE12-B828766A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193B3-A3E9-4915-B93D-0B491D94D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C585A-5B4C-4A87-8C13-60B932C27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7D64-4D69-4027-9284-4FA86C87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0C67-DB2E-49B2-87E0-AA4C5085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0D70-A1B8-4CF7-963B-A4DF95E9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5B61-4F1F-46E1-8F59-4BEF26D9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74DE-E170-42D0-AC59-66DBE2EE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8110-5D6F-46D3-A108-CA370C6044FB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C66C-E9E9-4A64-A980-115400FF7C3B}" type="slidenum">
              <a:rPr b="0" lang="ru-RU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DEFC-A7F8-48C3-BD2E-6BC11572A703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A1A5-17D0-41A9-BAFB-4F882438D0C8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4321440" cy="17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Gothic"/>
              </a:rPr>
              <a:t>Занимательный урок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539640" y="3716280"/>
            <a:ext cx="7777440" cy="20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Урок-вечер </a:t>
            </a:r>
            <a:r>
              <a:rPr b="1" lang="ru-RU" sz="3200" spc="-1" strike="noStrike">
                <a:solidFill>
                  <a:srgbClr val="424242"/>
                </a:solidFill>
                <a:latin typeface="Century Gothic"/>
              </a:rPr>
              <a:t>«Учёные-педагоги»</a:t>
            </a: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, 7 класс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Презентация урока учителя физик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Кузьминой Л. В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7" name="TextBox 1"/>
          <p:cNvSpPr/>
          <p:nvPr/>
        </p:nvSpPr>
        <p:spPr>
          <a:xfrm>
            <a:off x="4932360" y="42876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МБВ(С)ОУ   «О(С)ОШ №1»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Г. Калуги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Экспериментальное: «Динамометр» – 10 баллов.  </a:t>
            </a:r>
            <a:br>
              <a:rPr sz="3600"/>
            </a:b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42560" y="2313000"/>
            <a:ext cx="341964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ано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брусок, линейка, динамометр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айти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илу тяжести,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массу бруска, объём  бруска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645080" y="2313000"/>
            <a:ext cx="341928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25956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Дано: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брусок, линейка, динамометр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Найти: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силу упругости, растяжение пружины, коэффициент жёсткости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Учебник физики – 5 баллов</a:t>
            </a:r>
            <a:br>
              <a:rPr sz="3600"/>
            </a:b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Конкурс болельщиков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1. Кто автор учебника?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2. Что изображено на обложке учебника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3. Каково содержание форзацев учебника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4. Какова структура учебника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5. Сколько страниц в учебнике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6. Дополнительно, что можете сообщить про учебник физики 7 класса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«Загадки о физиках-учителях» – 5 баллов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Подсказки: угадаете ответ с первой подсказки, получите 5 баллов;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со второй – 4 балла и т. д.;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с последней – 1 балл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первая 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042560" y="2323800"/>
            <a:ext cx="74898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1. Он жил в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IV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 веке до нашей эры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2. Он был воспитателем Александра Македонского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3. «Самая универсальная голова среди древнегреческих философов» (Ф. Энгельс)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4. Свой принцип динамики он сформулировал так: «Всё, что находится в движении, движется благодаря воздействию другого»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5. Крёстный отец физики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Аристотель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4" name="Объект 1" descr=""/>
          <p:cNvPicPr/>
          <p:nvPr/>
        </p:nvPicPr>
        <p:blipFill>
          <a:blip r:embed="rId1"/>
          <a:stretch/>
        </p:blipFill>
        <p:spPr>
          <a:xfrm>
            <a:off x="3213000" y="2330280"/>
            <a:ext cx="26542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втора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042920" y="2323800"/>
            <a:ext cx="734544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1. Родился в селе Деревенском на Рязанщине в 1902 г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2. Диплом учителя математики и физики получил в рязанском учительском институте, завершил образование в МГУ им. Ломоносова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3. Работал в школе-коммуне им. Лепешинского с 1922 по июль 1941 г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4. Долгое время возглавлял  и работал на кафедре методике преподавания физики в МГПИ им. Ленина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5. Он автор учебника по физике для 7класса, по которому вы учитесь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Пёрышкин А. В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8" name="Объект 3" descr=""/>
          <p:cNvPicPr/>
          <p:nvPr/>
        </p:nvPicPr>
        <p:blipFill>
          <a:blip r:embed="rId1"/>
          <a:stretch/>
        </p:blipFill>
        <p:spPr>
          <a:xfrm>
            <a:off x="3116160" y="2324160"/>
            <a:ext cx="282600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треть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1. Открыл атмосферу на Венере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2. В 1775 году при его активном участии был открыт первый русский университет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3. Написал первый русский учебник по минералогии и заложил основы современного стихосложения; руководил составлением карты России, создал мозаичные картины, изготавливал инструменты для морской навигации и построил первую химическую лабораторию в России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4. Он первым стал читать публичные лекции по физике на русском языке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5. Зимой 1731 года двадцати лет отроду, он пришёл с обозом в Москву и только здесь начал учиться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Ломоносов М. В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72" name="Объект 1" descr=""/>
          <p:cNvPicPr/>
          <p:nvPr/>
        </p:nvPicPr>
        <p:blipFill>
          <a:blip r:embed="rId1"/>
          <a:stretch/>
        </p:blipFill>
        <p:spPr>
          <a:xfrm>
            <a:off x="2930400" y="2324160"/>
            <a:ext cx="328608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четвёрта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55640" y="2323800"/>
            <a:ext cx="763272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1. Его предок был известный бунтарь Наливайко. Казацкий предводитель конца 16 века. Борец против польской аристократии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2. О себе он говорил: «Я - чистейший материалист. Ничего не признаю, кроме материи»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3. С десяти лет глухота его сделала слабым и изгоем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4. О человечестве он говорил, что оно бессмертно и не останется вечно на Земле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5. Родился в селе Ижевском Рязанской губернии, а 40 лет прожил в Калуге, работал учителем и занимался наукой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Цели урока:</a:t>
            </a:r>
            <a:br>
              <a:rPr sz="3600"/>
            </a:b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1. Познакомить учащихся с деятельностью учёных физиков, которые в своё время работали учителями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2. Показать наиболее примечательные черты их мироззрения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3. Методы получения научных знаний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4. Сформировать правильное представление о характере научного труда учёны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Циолковский К.Э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76" name="Picture 7" descr="КРОСФОРД_0002"/>
          <p:cNvPicPr/>
          <p:nvPr/>
        </p:nvPicPr>
        <p:blipFill>
          <a:blip r:embed="rId1"/>
          <a:stretch/>
        </p:blipFill>
        <p:spPr>
          <a:xfrm>
            <a:off x="3325680" y="2324160"/>
            <a:ext cx="232596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Итоги игры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3d2d"/>
                </a:solidFill>
                <a:latin typeface="Century Gothic"/>
              </a:rPr>
              <a:t>Определение победителей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Литература:</a:t>
            </a:r>
            <a:br>
              <a:rPr sz="3600"/>
            </a:b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1. В.А. Волков, С. Е. Полянский. Поурочные разработки по физике. М.: ВАКО, 7-9 кл. 2005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2.  Кубеев М. Н. Сто великих имён России.- М.: Вече, 2010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Дополнительно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ачественные вопросы: №№ 447, 448, 412, 508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Содержание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042560" y="2060640"/>
            <a:ext cx="6777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353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1. Вступительное слово учителя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2. Задания для команд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 первое: «Найди правильную дорогу»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второе. Каждая команда рассказывает об учёном-учителе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третье – экспериментальное: «Динамометр»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четвёртое: «Знаешь ли ты свой учебник физики?»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пятое: «Загадки о физиках-учителях»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(Аристотель, Пёрышкин А. В., , Циолковский К. Э., Ломоносов М. В.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3. Заключительное слово учителя (итог вечера)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1. «Найди правильную дорогу» - 5 баллов.</a:t>
            </a:r>
            <a:br>
              <a:rPr sz="3600"/>
            </a:b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 три столбика выписаны обозначения физических величин, их единицы и названия. Необходимо стрелками соединить каждую физическую величину со своей единицей измерения и названием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1 команд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971640" y="2324160"/>
          <a:ext cx="6848280" cy="3552840"/>
        </p:xfrm>
        <a:graphic>
          <a:graphicData uri="http://schemas.openxmlformats.org/drawingml/2006/table">
            <a:tbl>
              <a:tblPr/>
              <a:tblGrid>
                <a:gridCol w="2282760"/>
                <a:gridCol w="2282760"/>
                <a:gridCol w="2282760"/>
              </a:tblGrid>
              <a:tr h="1071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елич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Единица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азвание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619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у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20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/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21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ор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20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2 команд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971640" y="2324160"/>
          <a:ext cx="6848280" cy="3698640"/>
        </p:xfrm>
        <a:graphic>
          <a:graphicData uri="http://schemas.openxmlformats.org/drawingml/2006/table">
            <a:tbl>
              <a:tblPr/>
              <a:tblGrid>
                <a:gridCol w="2282760"/>
                <a:gridCol w="2282760"/>
                <a:gridCol w="2282760"/>
              </a:tblGrid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елич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Единица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азвание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ъё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лощад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739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длин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Биография учёного – </a:t>
            </a:r>
            <a:br>
              <a:rPr sz="3600"/>
            </a:b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5 баллов.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аждая команда рассказывает об учёном-учителе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Учёные-педагоги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1" name="Объект 3" descr=""/>
          <p:cNvPicPr/>
          <p:nvPr/>
        </p:nvPicPr>
        <p:blipFill>
          <a:blip r:embed="rId1"/>
          <a:stretch/>
        </p:blipFill>
        <p:spPr>
          <a:xfrm>
            <a:off x="3203640" y="2349360"/>
            <a:ext cx="2622600" cy="34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Учёные-педагоги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3" name="Picture 7" descr="КРОСФОРД_0002"/>
          <p:cNvPicPr/>
          <p:nvPr/>
        </p:nvPicPr>
        <p:blipFill>
          <a:blip r:embed="rId1"/>
          <a:stretch/>
        </p:blipFill>
        <p:spPr>
          <a:xfrm>
            <a:off x="3203640" y="2349360"/>
            <a:ext cx="266364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10:52:33Z</dcterms:created>
  <dc:creator>Кузьмина</dc:creator>
  <dc:description/>
  <dc:language>en-US</dc:language>
  <cp:lastModifiedBy>Ольга</cp:lastModifiedBy>
  <dcterms:modified xsi:type="dcterms:W3CDTF">2015-07-02T14:52:42Z</dcterms:modified>
  <cp:revision>17</cp:revision>
  <dc:subject/>
  <dc:title>Презентация PowerPoint</dc:title>
</cp:coreProperties>
</file>